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C0CE-9275-40DB-A173-28F2C1A5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3E440-A173-4ED2-9C3C-1E0CA0C62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F5DBF-3E1B-4318-AFB4-0140D055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37692-67DE-4EB0-B5CA-92F75147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9BDE-4EC3-4C36-9C79-E7F56EBD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D753-664E-46DB-9329-134B5611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3FCA0-3842-44BD-87EB-8BCCD746C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65267-27B8-43F6-B610-A72C2B29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B7C8-A365-4BA1-BD1A-409222260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A1F93-8C90-4A57-BBC0-8493C8AFD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C235B-D7B3-47CC-A2DD-9D7DB5EB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A7031-E12B-4F6E-A82B-F4C5E567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0FDD-4791-4D6F-B7A9-170E699D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82883-4EDA-46A1-8CA1-74E38F9C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BE2B-7389-4762-AEFE-7D8D9872F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7215-4E5E-4B4C-A958-7E9A63012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28E6-1573-4997-9B30-FF8D77C7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08822-F65E-4486-86A8-29D92B3DA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6D2CF-A651-4257-B417-7EF4D1C10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07FD27-1EC9-4C12-93C0-EB0F0CCB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13C52-E7D1-4440-B509-9BDC2CD6B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2D184-F09C-44F3-96BE-AF49F636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5C678-FACE-49E3-B7E9-1AA827C9C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AEDBF0-1769-476D-82C1-AC0DD3AD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A8BA3-264C-40F0-AD3C-A7AAA54C4C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DC96A-91EE-4BF8-8A09-F73D45F9BD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600" spc="-1" strike="noStrike">
                <a:solidFill>
                  <a:srgbClr val="ffffff"/>
                </a:solidFill>
                <a:latin typeface="Arial"/>
              </a:rPr>
              <a:t>Computación 1 - 8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900" spc="-1" strike="noStrike">
                <a:solidFill>
                  <a:srgbClr val="000000"/>
                </a:solidFill>
                <a:latin typeface="Arial"/>
              </a:rPr>
              <a:t>Sergio Flood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4000" y="1413000"/>
            <a:ext cx="8351640" cy="51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mostramos las variables que estaban en el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IntToStr(n4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mo1-&gt;Lines-&gt;Add(FloatToStr(n5[i]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33cc33"/>
                </a:solidFill>
                <a:latin typeface="Arial"/>
              </a:rPr>
              <a:t>//cerra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6673680" cy="4962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443640" y="537372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08720" y="5157720"/>
            <a:ext cx="1584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roup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que no se mezc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1700280"/>
            <a:ext cx="8353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ool pintar = false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variable logica booleana inicializada como falso (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__fastcall TForm1::TForm1(TComponent* 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TForm(Ow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Pruebas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Rectangle(20,20,220,8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Ellipse(80,10,100,12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9640" y="1197000"/>
            <a:ext cx="8064720" cy="55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Rectang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Rectangle(100,100,400,28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Circulo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Ellipse(150,150,350,350);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1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Red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3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void __fastcall TForm1::btnEstilo2Click(TObject *Sender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Color = clPurple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orm1-&gt;Canvas-&gt;Pen-&gt;Width = 1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1401840"/>
            <a:ext cx="79214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Yellow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Cros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Relleno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Color = clGree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Brush-&gt;Style = bsSol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1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400,2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1341360"/>
            <a:ext cx="828036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inea2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LineTo(300,400)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Mov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/se mueve para un punto distinto al origen (0,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m1-&gt;Canvas-&gt;MoveTo(200,300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55640" y="1844640"/>
            <a:ext cx="75614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uscar en el Help todos los objetos y comandos relacionados con los dibu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4360" y="155736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chart es un objeto de C++ que permite hacer gráficos de manera más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332000" y="2349360"/>
            <a:ext cx="6440400" cy="40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4162320" cy="3324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067280" y="2852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724360" y="256536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greg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67280" y="3205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724360" y="29178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rrar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067280" y="3500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24360" y="3213000"/>
            <a:ext cx="29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tulo series de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067280" y="407664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580000" y="4005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mbia características de la s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5280" y="1557360"/>
            <a:ext cx="842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30,"Ferrari",clRe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170,"Porsche",clBlac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430,"Volvo",clYellow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-------------------------------------------------------------------------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AgregarCaletaDatos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2653589793238462643383279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1]-&gt;Add(10.0*sin(a)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2]-&gt;Add(1*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ra poder leer desde o escribir en archivos o ficheros (lectura/escritura de datos en unidades de almacenamiento permanente como los disquetes, discos duros, etc.), se debe incluir la librer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.h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&gt;. En esta librería se definen las clases necesarias para la utilización de ficheros, que son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f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f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derivan d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stream 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ostream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que a su vez derivan de la clase 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6646680" cy="50007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32720" y="2492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524720" y="227664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32720" y="28465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524720" y="263052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m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020000" y="364500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usaran para hacer ani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91628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280" y="2997360"/>
            <a:ext cx="813744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1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4*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sin(ai-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i-=0.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8360" y="21337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Genera animacion al ir sumando un fase ai que depende del tiempo de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826920" y="2781360"/>
            <a:ext cx="741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Experiment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2-&gt;Enabled = !Timer2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6920" y="1989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39640" y="2637000"/>
            <a:ext cx="7920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SenoAnimado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imer1-&gt;Enabled = !Timer1-&gt;Enable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9640" y="177336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iva Time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55640" y="2997360"/>
            <a:ext cx="7345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Timer2Timer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pi = 3.14159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Cle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p=0.3*sin(2*pi*f*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 (double a=0;a&lt;=M_PI;a+=0.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hart1-&gt;Series[0]-&gt;Add(amp*sin(a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+=0.03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900000" y="170028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mplifica y disminuye la amplitud a partir de tiempo t activado por Tim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831708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1628640"/>
            <a:ext cx="662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dicador  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do aper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 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c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out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cr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pp  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ñad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nary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o bi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3527280" cy="31892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619280" y="220500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916280"/>
            <a:ext cx="338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Crear -----btnCrea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tnLeer ----btnLerrCl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3716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076720" y="328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mo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628640"/>
            <a:ext cx="842472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&lt;vcl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hdrs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Unit14.h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include "fstream.h"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lama a la libreria de uso archi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371628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package(smart_in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#pragma resource "*.dfm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Form1 *Form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stream archivoo; 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indica las el objeto de operaciones de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341360"/>
            <a:ext cx="8280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Crea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a=127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finimos y damos valores a los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b=6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c=3.141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d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e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[i] = i+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r(int i = 0;i&lt;=9; i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[i] = (i+1)/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68360" y="1413000"/>
            <a:ext cx="7991280" cy="38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rear archivo y abr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out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escribir d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a,4);  //4 tamaño de int en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b,2);  //2 tamaño de short 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(char *)&amp;c,sizeof(c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d,sizeof(d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write( (char *)&amp;e,sizeof(e) 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cerrar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clos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468360" y="549360"/>
            <a:ext cx="82296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Arch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9640" y="1484280"/>
            <a:ext cx="7777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oid __fastcall TForm1::btnLeerClick(TObject *Sen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declaramos las variables se usa otro nomb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hort n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loat n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 n4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uble n5[10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abri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open("datos.dat",ios::in|ios::binar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cc33"/>
                </a:solidFill>
                <a:latin typeface="Arial"/>
              </a:rPr>
              <a:t>//leemos arch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1,sizeof(n1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2,sizeof(n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3,sizeof(n3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4,sizeof(n4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rchivoo.read((char *)&amp;n5,sizeof(n5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2:53:45Z</dcterms:created>
  <dc:creator>Eddie</dc:creator>
  <dc:description/>
  <dc:language>en-US</dc:language>
  <cp:lastModifiedBy>Eddie</cp:lastModifiedBy>
  <dcterms:modified xsi:type="dcterms:W3CDTF">2009-11-09T17:36:04Z</dcterms:modified>
  <cp:revision>163</cp:revision>
  <dc:subject/>
  <dc:title>Computación 1</dc:title>
</cp:coreProperties>
</file>