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A236-01E1-488F-9EDE-3063765B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311A-C4B0-4C22-AABF-0BE373CB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50BF-F66E-43DB-BC36-A48D8897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8F75-F498-426B-ADD5-5279D60D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241-4C4A-4A1D-865B-A362041E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4B3-C4ED-4A3A-9547-23F2FCB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818-4944-4ECD-849A-D2CA421D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469-13B8-4FAA-AD66-E2AE6185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C4E8-AC5E-4651-8551-51F44D0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744-B174-4DB9-9BEF-38ED896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75F5-B474-45B7-B960-CEC8F03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9C07-06B5-47DB-AE82-1E89A29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204-95D9-4EEC-A193-DE145DF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6A64-670C-4027-8011-72EE00E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FA4-7308-43A9-AE55-0F81A6C8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F7E3-687D-46DD-90B4-3453E48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7E7-7EC5-4560-B03B-09CF486D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1E38-97C8-4794-BD33-DD46C00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2EDE-C65A-42BE-9EC0-35482CE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9EF6-5DF5-4CED-9440-D1AE33C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8A4A-BCF8-4F29-A08A-52FBECC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E592-413D-40CD-834B-36DF9B2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1EE1-1693-487F-9068-5659CED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61AE-DC9B-46F9-982B-5E3FFD7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6CE-5A88-4C4C-A15C-C178A9C79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999-EB95-4505-A135-27D8FCB25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673680" cy="496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43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515772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ou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que no se mezc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700280"/>
            <a:ext cx="8353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pintar = false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 logica booleana inicializada como falso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Pruebas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Rectangle(20,20,220,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Ellipse(80,10,100,1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806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Rectang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Rectangle(100,100,400,28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Circ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Ellipse(150,150,350,35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1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Re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2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Purp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0184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Yel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Cro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So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400,2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34136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300,4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Mo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 mueve para un punto distinto al origen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MoveTo(200,30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84464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scar en el Help todos los objetos y comandos relacionados con los dib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hart es un objeto de C++ que permite hacer gráficos de manera má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40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6232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g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205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917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21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tulo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40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características de la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557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30,"Ferrari"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170,"Porsche",cl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430,"Volvo",clYello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Caleta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1]-&gt;Add(10.0*sin(a)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2]-&gt;Add(1*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64668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2846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645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ran para hacer ani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1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997360"/>
            <a:ext cx="813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1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i-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-=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1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animacion al ir sumando un fase ai que depende del tiempo de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78136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Experiment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2-&gt;Enabled = !Timer2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3700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Animad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1-&gt;Enabled = !Timer1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2997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2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=0.3*sin(2*pi*f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M_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amp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+=0.0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fica y disminuye la amplitud a partir de tiempo t activado por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9T17:36:04Z</dcterms:modified>
  <cp:revision>163</cp:revision>
  <dc:subject/>
  <dc:title>Computación 1</dc:title>
</cp:coreProperties>
</file>