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DF72-1149-497F-AFBA-4B5D6C64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5D5F-4FB0-446E-80E2-96B9FD1B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0DE4-7C4D-4C4D-B747-30C83D1D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7EEB-8A2B-41CC-8511-A574107C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0110-3A82-4887-8426-98976CDB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A147-BF9A-49C4-A1BB-4A86A027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70F4-A0BF-45CD-9FD4-BDFF51FC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68D1-E1DC-4067-B71C-01FE01D1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6067-9C66-457A-BEB4-F579E235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FD28-35FB-4CBA-BC57-C5B30F09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57BF-D8B7-4BDE-A88F-065560D6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0921-8A6C-4CC9-870E-E1AE6EC5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A08A-DC73-4D56-9EFC-62F657D7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09BE-2BDF-4065-8E7D-EEB25D69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36A8-D689-4A38-B5D4-5F0E1EE0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07D8-2B52-497D-A7BC-5486DA1A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9167-4AEC-462E-8A0D-5CAB8D2D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C6CB-8AB7-422E-AB15-4945FE24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28C6A-FCDA-49B2-82BC-B54EE203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2573-F614-44A8-94C1-2792064E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54F0-F52A-41B7-B26F-51C5AF46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F735-116C-4A5A-B6DE-858F7E6B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3520-5141-4B1E-A65F-2A8F07A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456B-4AAF-4986-8CD9-508C499D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FD77-3E2C-45EC-BFEA-D57DE420E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1DCB-1C63-46D6-8E9A-781C810E23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8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13000"/>
            <a:ext cx="8351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mostramos las variables que estaban en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4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5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cerra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6673680" cy="4962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443640" y="5373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515772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oup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que no se mezc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700280"/>
            <a:ext cx="8353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ol pintar = false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variable logica booleana inicializada como falso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Pruebas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Rectangle(20,20,220,8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Ellipse(80,10,100,1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197000"/>
            <a:ext cx="806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Rectangulo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Rectangle(100,100,400,280);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Circulo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Ellipse(150,150,350,350);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Estilo1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Color = clRe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Width = 3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Estilo2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Color = clPurpl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Width = 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401840"/>
            <a:ext cx="7921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Rellen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Color = clYell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Style = bsCro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Relleno2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Color = clGre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Style = bsSol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inea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LineTo(400,200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34136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inea2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LineTo(300,400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Mov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 mueve para un punto distinto al origen 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MoveTo(200,30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844640"/>
            <a:ext cx="7561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uscar en el Help todos los objetos y comandos relacionados con los dibu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557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chart es un objeto de C++ que permite hacer gráficos de manera má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4404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162320" cy="3324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6728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2565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gregar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3205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29178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rrar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3500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3213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tulo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07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0000" y="4005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características de la 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55736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gregarDatos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30,"Ferrari",clR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170,"Porsche",clBlac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430,"Volvo",clYello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gregarCaletaDatos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1]-&gt;Add(10.0*sin(a)*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2]-&gt;Add(1*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poder leer desde o escribir en archivos o ficheros (lectura/escritura de datos en unidades de almacenamiento permanente como los disquetes, discos duros, etc.), se debe incluir la libr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.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. En esta librería se definen las clases necesarias para la utilización de ficheros, que so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f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derivan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a su vez derivan de la clas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6646680" cy="5000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24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m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32720" y="28465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4720" y="2630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m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20000" y="364500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usaran para hacer ani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91628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Sen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2997360"/>
            <a:ext cx="8137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Timer1Timer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sin(ai-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i-=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133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animacion al ir sumando un fase ai que depende del tiempo de Tim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2781360"/>
            <a:ext cx="741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Experiment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mer2-&gt;Enabled = !Timer2-&gt;Enabl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1989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Tim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2637000"/>
            <a:ext cx="792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SenoAnimad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mer1-&gt;Enabled = !Timer1-&gt;Enabl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773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Tim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2997360"/>
            <a:ext cx="73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Timer2Timer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=0.3*sin(2*pi*f*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M_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amp*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+=0.0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17002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fica y disminuye la amplitud a partir de tiempo t activado por Tim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3170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162864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dicador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o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ut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p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ña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nary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o 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527280" cy="3189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19280" y="2205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916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Crear -----btnCrea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Leer ----btnLer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716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28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62864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14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lama a la libreria de uso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71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archivoo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indica las el objeto de operaciones 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34136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Crea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a=127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finimos y damos valores a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=6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c=3.14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d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e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[i] = 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[i] = (i+1)/1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1413000"/>
            <a:ext cx="7991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rear archivo y ab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escribi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a,4);  //4 tamaño de int en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b,2);  //2 tamaño de short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c,sizeof(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d,sizeof(d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e,sizeof(e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errar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484280"/>
            <a:ext cx="777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e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mos las variables se usa otro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n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4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n5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abri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ee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1,sizeof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2,sizeof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3,sizeof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4,sizeof(n4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5,sizeof(n5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1-09T17:36:04Z</dcterms:modified>
  <cp:revision>163</cp:revision>
  <dc:subject/>
  <dc:title>Computación 1</dc:title>
</cp:coreProperties>
</file>