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A18-E072-4586-9C89-721EFCBE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73C-4DC5-4D94-96B7-2354045B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3DB-415D-42B4-8CE4-BE4DA83A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96D-ACE0-47B0-ABFE-C1E37AC8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055-DEC5-4E4B-B557-F1FD118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CE9-19C4-40D0-B53C-1F5CF92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E26-787F-4D09-BC98-96B8E42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425-466C-4D72-BDBB-E8475A5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514-82A6-4E9B-8CCA-44CC3BF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CFF-4838-492C-8571-38BD358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4E1-994F-4F46-8935-A646B8B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E04-58B9-4A2F-879D-87802D2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FCED-8763-47DC-9177-24833FA0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macrobiano del siglo 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crobian%20Y-O_sg%20XI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78204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6172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Henricus Martellanus, 14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nricus%20martelus_1489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2200" y="502884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 de Gautier de Metz con la Tierra al centro del Uni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r_metz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60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l cosmos de acuerdo a la visión de Ezequiel, S. 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rtes_cosmos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866920" y="47239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tr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do de la 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crobosco, 14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acrobosco-Sphaera-1490-fp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143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cel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robo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acro142" descr=""/>
          <p:cNvPicPr/>
          <p:nvPr/>
        </p:nvPicPr>
        <p:blipFill>
          <a:blip r:embed="rId1"/>
          <a:stretch/>
        </p:blipFill>
        <p:spPr>
          <a:xfrm>
            <a:off x="4146480" y="228600"/>
            <a:ext cx="4473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5520" y="1447920"/>
            <a:ext cx="2667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do de Astr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ano, S. 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 la eclíp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piano114" descr=""/>
          <p:cNvPicPr/>
          <p:nvPr/>
        </p:nvPicPr>
        <p:blipFill>
          <a:blip r:embed="rId1"/>
          <a:stretch/>
        </p:blipFill>
        <p:spPr>
          <a:xfrm>
            <a:off x="990720" y="276120"/>
            <a:ext cx="4613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440" y="63241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ustración de la “Divina Comedia”, Ed. de Aldo Manuzio, Venecia, 1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ante140" descr=""/>
          <p:cNvPicPr/>
          <p:nvPr/>
        </p:nvPicPr>
        <p:blipFill>
          <a:blip r:embed="rId1"/>
          <a:stretch/>
        </p:blipFill>
        <p:spPr>
          <a:xfrm>
            <a:off x="757080" y="85680"/>
            <a:ext cx="7624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rspectivaAlbertiana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74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yección perspectív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img1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2286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paralelepípe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ribuido a Brunelles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38480" y="228600"/>
          <a:ext cx="455292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"/>
                    <a:ext cx="455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 de Isidoro de Sev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ar_isidoro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5627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suelo ajedre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berti (arri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gnola (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380880"/>
          <a:ext cx="5554440" cy="618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0880"/>
                    <a:ext cx="555444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943600" y="6019560"/>
            <a:ext cx="274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ill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92280" y="152280"/>
          <a:ext cx="414468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52280"/>
                    <a:ext cx="414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Cónica.   Dur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rs_con_durero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7816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un laú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urer3" descr=""/>
          <p:cNvPicPr/>
          <p:nvPr/>
        </p:nvPicPr>
        <p:blipFill>
          <a:blip r:embed="rId1"/>
          <a:stretch/>
        </p:blipFill>
        <p:spPr>
          <a:xfrm>
            <a:off x="609480" y="174600"/>
            <a:ext cx="79250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con cu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urer1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89913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Retrato de Luca Pacioli, 14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rtrait%20of%20Luca%20Pacioli" descr=""/>
          <p:cNvPicPr/>
          <p:nvPr/>
        </p:nvPicPr>
        <p:blipFill>
          <a:blip r:embed="rId1"/>
          <a:stretch/>
        </p:blipFill>
        <p:spPr>
          <a:xfrm>
            <a:off x="762120" y="25560"/>
            <a:ext cx="7467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Det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hombi" descr=""/>
          <p:cNvPicPr/>
          <p:nvPr/>
        </p:nvPicPr>
        <p:blipFill>
          <a:blip r:embed="rId1"/>
          <a:stretch/>
        </p:blipFill>
        <p:spPr>
          <a:xfrm>
            <a:off x="1447920" y="360360"/>
            <a:ext cx="603396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ntarsia4" descr=""/>
          <p:cNvPicPr/>
          <p:nvPr/>
        </p:nvPicPr>
        <p:blipFill>
          <a:blip r:embed="rId1"/>
          <a:stretch/>
        </p:blipFill>
        <p:spPr>
          <a:xfrm>
            <a:off x="4051440" y="76320"/>
            <a:ext cx="39495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ntarsia3" descr=""/>
          <p:cNvPicPr/>
          <p:nvPr/>
        </p:nvPicPr>
        <p:blipFill>
          <a:blip r:embed="rId1"/>
          <a:stretch/>
        </p:blipFill>
        <p:spPr>
          <a:xfrm>
            <a:off x="4094280" y="95400"/>
            <a:ext cx="39830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tarsia-2" descr=""/>
          <p:cNvPicPr/>
          <p:nvPr/>
        </p:nvPicPr>
        <p:blipFill>
          <a:blip r:embed="rId1"/>
          <a:stretch/>
        </p:blipFill>
        <p:spPr>
          <a:xfrm>
            <a:off x="4187880" y="152280"/>
            <a:ext cx="3584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-O%20edición%20del%20beato_sg%20XI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56102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c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na proport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ustrado por Leonardo da Vi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cioli-1509-000tp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762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64008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: ilustración para la Divina Proporción de Paci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ero" descr=""/>
          <p:cNvPicPr/>
          <p:nvPr/>
        </p:nvPicPr>
        <p:blipFill>
          <a:blip r:embed="rId1"/>
          <a:stretch/>
        </p:blipFill>
        <p:spPr>
          <a:xfrm>
            <a:off x="914400" y="276120"/>
            <a:ext cx="72388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440" y="44956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 par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cuerp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5corps" descr=""/>
          <p:cNvPicPr/>
          <p:nvPr/>
        </p:nvPicPr>
        <p:blipFill>
          <a:blip r:embed="rId1"/>
          <a:stretch/>
        </p:blipFill>
        <p:spPr>
          <a:xfrm>
            <a:off x="4191120" y="76320"/>
            <a:ext cx="441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eonardo_2" descr=""/>
          <p:cNvPicPr/>
          <p:nvPr/>
        </p:nvPicPr>
        <p:blipFill>
          <a:blip r:embed="rId1"/>
          <a:stretch/>
        </p:blipFill>
        <p:spPr>
          <a:xfrm>
            <a:off x="1447920" y="527040"/>
            <a:ext cx="5790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eonardo-campanus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618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eonardo-id-elevatum" descr=""/>
          <p:cNvPicPr/>
          <p:nvPr/>
        </p:nvPicPr>
        <p:blipFill>
          <a:blip r:embed="rId1"/>
          <a:stretch/>
        </p:blipFill>
        <p:spPr>
          <a:xfrm>
            <a:off x="1695600" y="228600"/>
            <a:ext cx="539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lla Francesca: De Prospectiva Pigendi, 1472-14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ero_1" descr=""/>
          <p:cNvPicPr/>
          <p:nvPr/>
        </p:nvPicPr>
        <p:blipFill>
          <a:blip r:embed="rId1"/>
          <a:stretch/>
        </p:blipFill>
        <p:spPr>
          <a:xfrm>
            <a:off x="533520" y="1300320"/>
            <a:ext cx="80899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poliedro al interior de un c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ero_0" descr=""/>
          <p:cNvPicPr/>
          <p:nvPr/>
        </p:nvPicPr>
        <p:blipFill>
          <a:blip r:embed="rId1"/>
          <a:stretch/>
        </p:blipFill>
        <p:spPr>
          <a:xfrm>
            <a:off x="1552680" y="228600"/>
            <a:ext cx="53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onstrucción perspectívica de un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ero_2" descr=""/>
          <p:cNvPicPr/>
          <p:nvPr/>
        </p:nvPicPr>
        <p:blipFill>
          <a:blip r:embed="rId1"/>
          <a:stretch/>
        </p:blipFill>
        <p:spPr>
          <a:xfrm>
            <a:off x="609480" y="600120"/>
            <a:ext cx="81536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1981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spectiva Pig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rucción perspectívica de un edificio con planta en forma de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rospettiva6" descr=""/>
          <p:cNvPicPr/>
          <p:nvPr/>
        </p:nvPicPr>
        <p:blipFill>
          <a:blip r:embed="rId1"/>
          <a:stretch/>
        </p:blipFill>
        <p:spPr>
          <a:xfrm>
            <a:off x="2862360" y="228600"/>
            <a:ext cx="6010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120" y="5562720"/>
            <a:ext cx="3124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_tyo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59712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54097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iudad Ideal, c. 14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dealcit_c1470_panel_60x200_galleria%20nacional_Urbino" descr=""/>
          <p:cNvPicPr/>
          <p:nvPr/>
        </p:nvPicPr>
        <p:blipFill>
          <a:blip r:embed="rId1"/>
          <a:stretch/>
        </p:blipFill>
        <p:spPr>
          <a:xfrm>
            <a:off x="76320" y="1162080"/>
            <a:ext cx="90676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3733920"/>
            <a:ext cx="1676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olo Ucc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un cá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uccelo" descr=""/>
          <p:cNvPicPr/>
          <p:nvPr/>
        </p:nvPicPr>
        <p:blipFill>
          <a:blip r:embed="rId1"/>
          <a:stretch/>
        </p:blipFill>
        <p:spPr>
          <a:xfrm>
            <a:off x="4014720" y="76320"/>
            <a:ext cx="46720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2209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retablo" descr=""/>
          <p:cNvPicPr/>
          <p:nvPr/>
        </p:nvPicPr>
        <p:blipFill>
          <a:blip r:embed="rId1"/>
          <a:stretch/>
        </p:blipFill>
        <p:spPr>
          <a:xfrm>
            <a:off x="3505320" y="76320"/>
            <a:ext cx="4611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1920" y="640080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n Van Eyck: Madonna con Canon van der Pale, 1436, o/madera, 122 x 1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21paele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8487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Madonna con Canon van der 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van%20eyck_perspective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ereck Bouts el viejo: Altar del Santo Sacaramento, 1464-67, o/madera, 185 x 2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altar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400440" y="609120"/>
            <a:ext cx="2514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lasts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95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77120" y="914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ig2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3211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52720" y="4038480"/>
            <a:ext cx="2210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mundi en salterio, 1125-1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salter%20mapa%20mundi_1125-50" descr=""/>
          <p:cNvPicPr/>
          <p:nvPr/>
        </p:nvPicPr>
        <p:blipFill>
          <a:blip r:embed="rId1"/>
          <a:stretch/>
        </p:blipFill>
        <p:spPr>
          <a:xfrm>
            <a:off x="533520" y="233280"/>
            <a:ext cx="45972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34320" y="1143000"/>
            <a:ext cx="1752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mu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bstorf%20mapamundi_1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. Jardín del Edé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bstorf_jardín%20del%20ede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og y Mag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ebstorf_gog%20y%20magog" descr=""/>
          <p:cNvPicPr/>
          <p:nvPr/>
        </p:nvPicPr>
        <p:blipFill>
          <a:blip r:embed="rId1"/>
          <a:stretch/>
        </p:blipFill>
        <p:spPr>
          <a:xfrm>
            <a:off x="4896000" y="228600"/>
            <a:ext cx="393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de Claudio Ptolomeo de 14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audio%20ptolomeo_1474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543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57:35Z</dcterms:created>
  <dc:creator>lupe</dc:creator>
  <dc:description/>
  <dc:language>en-US</dc:language>
  <cp:lastModifiedBy>lupe</cp:lastModifiedBy>
  <dcterms:modified xsi:type="dcterms:W3CDTF">2008-05-04T23:56:19Z</dcterms:modified>
  <cp:revision>130</cp:revision>
  <dc:subject/>
  <dc:title>Presentación de PowerPoint</dc:title>
</cp:coreProperties>
</file>