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6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45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5.png" ContentType="image/png"/>
  <Override PartName="/ppt/media/image43.jpeg" ContentType="image/jpeg"/>
  <Override PartName="/ppt/media/image36.png" ContentType="image/png"/>
  <Override PartName="/ppt/media/image42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C72-CDE3-4657-8347-2D2A7D5C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8EE7-DDF8-4610-93E0-5B9BB0F4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5E5-5138-445B-9758-6C16AE2C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E3B-FCC2-400F-8EEB-D9C87669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11F-ED45-4F14-9839-3E883C2DB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476-6A24-43F4-A2EB-7B31A221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2D7D-85DA-4B5B-81A5-61A766A6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7AD-4E1D-4772-918A-B375027E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BAE-4B1E-4AC7-AE75-262863EE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65D1-E798-44F5-8183-3116A83E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BB0A-DDE2-47F4-8037-E226D4C3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1F92-77C3-4DF3-A53E-A6CECF4D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D1A5-473E-47D1-9704-1C2A13801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33520" y="64004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pa macrobiano del siglo X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acrobian%20Y-O_sg%20XI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678204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447920" y="61722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pa de Henricus Martellanus, 148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henricus%20martelus_1489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69644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172200" y="5028840"/>
            <a:ext cx="2743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pa de Gautier de Metz con la Tierra al centro del Unive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ar_metz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4608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762120" y="6172200"/>
            <a:ext cx="7696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n del cosmos de acuerdo a la visión de Ezequiel, S. X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rtes_cosmos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46784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866920" y="472392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tr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tado de la Esf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acrobosco, 14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acrobosco-Sphaera-1490-fp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1436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5791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fera cel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acrobo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sacro142" descr=""/>
          <p:cNvPicPr/>
          <p:nvPr/>
        </p:nvPicPr>
        <p:blipFill>
          <a:blip r:embed="rId1"/>
          <a:stretch/>
        </p:blipFill>
        <p:spPr>
          <a:xfrm>
            <a:off x="4146480" y="228600"/>
            <a:ext cx="4473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5520" y="1447920"/>
            <a:ext cx="2667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tado de Astrolo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iano, S. X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n de la eclíp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apiano114" descr=""/>
          <p:cNvPicPr/>
          <p:nvPr/>
        </p:nvPicPr>
        <p:blipFill>
          <a:blip r:embed="rId1"/>
          <a:stretch/>
        </p:blipFill>
        <p:spPr>
          <a:xfrm>
            <a:off x="990720" y="276120"/>
            <a:ext cx="461304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440" y="63241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lustración de la “Divina Comedia”, Ed. de Aldo Manuzio, Venecia, 15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dante140" descr=""/>
          <p:cNvPicPr/>
          <p:nvPr/>
        </p:nvPicPr>
        <p:blipFill>
          <a:blip r:embed="rId1"/>
          <a:stretch/>
        </p:blipFill>
        <p:spPr>
          <a:xfrm>
            <a:off x="757080" y="85680"/>
            <a:ext cx="7624800" cy="61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5791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pectiva Albert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erspectivaAlbertiana" descr=""/>
          <p:cNvPicPr/>
          <p:nvPr/>
        </p:nvPicPr>
        <p:blipFill>
          <a:blip r:embed="rId1"/>
          <a:stretch/>
        </p:blipFill>
        <p:spPr>
          <a:xfrm>
            <a:off x="4572000" y="152280"/>
            <a:ext cx="3746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447920" y="5867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oyección perspectív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img1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7696080" cy="46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4876920"/>
            <a:ext cx="2286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e un paralelepípe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tribuido a Brunellesc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038480" y="228600"/>
          <a:ext cx="4552920" cy="644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28600"/>
                    <a:ext cx="4552920" cy="644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2209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en T y O de Isidoro de Sev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7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ar_isidoro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556272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28600" y="42667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trucción de un suelo ajedrez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berti (arrib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gnola (abaj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76720" y="380880"/>
          <a:ext cx="5554440" cy="618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0880"/>
                    <a:ext cx="5554440" cy="61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943600" y="6019560"/>
            <a:ext cx="2743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illa albert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92280" y="152280"/>
          <a:ext cx="414468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52280"/>
                    <a:ext cx="4144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71600" y="6019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spectiva Cónica.   Dur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ers_con_durero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678168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rero: Artista dibujando un laú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durer3" descr=""/>
          <p:cNvPicPr/>
          <p:nvPr/>
        </p:nvPicPr>
        <p:blipFill>
          <a:blip r:embed="rId1"/>
          <a:stretch/>
        </p:blipFill>
        <p:spPr>
          <a:xfrm>
            <a:off x="609480" y="174600"/>
            <a:ext cx="79250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rero: Artista dibujando con cuer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durer1" descr=""/>
          <p:cNvPicPr/>
          <p:nvPr/>
        </p:nvPicPr>
        <p:blipFill>
          <a:blip r:embed="rId1"/>
          <a:stretch/>
        </p:blipFill>
        <p:spPr>
          <a:xfrm>
            <a:off x="76320" y="838080"/>
            <a:ext cx="899136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440" y="64771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acopo de Barbari: Retrato de Luca Pacioli, 14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rtrait%20of%20Luca%20Pacioli" descr=""/>
          <p:cNvPicPr/>
          <p:nvPr/>
        </p:nvPicPr>
        <p:blipFill>
          <a:blip r:embed="rId1"/>
          <a:stretch/>
        </p:blipFill>
        <p:spPr>
          <a:xfrm>
            <a:off x="762120" y="25560"/>
            <a:ext cx="746748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440" y="64771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acopo de Barbari: Deta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rhombi" descr=""/>
          <p:cNvPicPr/>
          <p:nvPr/>
        </p:nvPicPr>
        <p:blipFill>
          <a:blip r:embed="rId1"/>
          <a:stretch/>
        </p:blipFill>
        <p:spPr>
          <a:xfrm>
            <a:off x="1447920" y="360360"/>
            <a:ext cx="6033960" cy="59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2286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a Giovan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a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ntarsia4" descr=""/>
          <p:cNvPicPr/>
          <p:nvPr/>
        </p:nvPicPr>
        <p:blipFill>
          <a:blip r:embed="rId1"/>
          <a:stretch/>
        </p:blipFill>
        <p:spPr>
          <a:xfrm>
            <a:off x="4051440" y="76320"/>
            <a:ext cx="394956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2286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a Giovan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a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intarsia3" descr=""/>
          <p:cNvPicPr/>
          <p:nvPr/>
        </p:nvPicPr>
        <p:blipFill>
          <a:blip r:embed="rId1"/>
          <a:stretch/>
        </p:blipFill>
        <p:spPr>
          <a:xfrm>
            <a:off x="4094280" y="95400"/>
            <a:ext cx="398304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2286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ra Giovan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rac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intarsia-2" descr=""/>
          <p:cNvPicPr/>
          <p:nvPr/>
        </p:nvPicPr>
        <p:blipFill>
          <a:blip r:embed="rId1"/>
          <a:stretch/>
        </p:blipFill>
        <p:spPr>
          <a:xfrm>
            <a:off x="4187880" y="152280"/>
            <a:ext cx="35845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2209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en T y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T-O%20edición%20del%20beato_sg%20XI" descr=""/>
          <p:cNvPicPr/>
          <p:nvPr/>
        </p:nvPicPr>
        <p:blipFill>
          <a:blip r:embed="rId1"/>
          <a:stretch/>
        </p:blipFill>
        <p:spPr>
          <a:xfrm>
            <a:off x="2971800" y="609480"/>
            <a:ext cx="5610240" cy="60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160" y="3733920"/>
            <a:ext cx="2438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ca Pacio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vina proportio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5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lustrado por Leonardo da Vin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acioli-1509-000tp" descr=""/>
          <p:cNvPicPr/>
          <p:nvPr/>
        </p:nvPicPr>
        <p:blipFill>
          <a:blip r:embed="rId1"/>
          <a:stretch/>
        </p:blipFill>
        <p:spPr>
          <a:xfrm>
            <a:off x="4038480" y="152280"/>
            <a:ext cx="4762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440" y="64008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onardo: ilustración para la Divina Proporción de Paci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ero" descr=""/>
          <p:cNvPicPr/>
          <p:nvPr/>
        </p:nvPicPr>
        <p:blipFill>
          <a:blip r:embed="rId1"/>
          <a:stretch/>
        </p:blipFill>
        <p:spPr>
          <a:xfrm>
            <a:off x="914400" y="276120"/>
            <a:ext cx="72388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685440" y="449568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eonardo para Pacio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 cuerp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5corps" descr=""/>
          <p:cNvPicPr/>
          <p:nvPr/>
        </p:nvPicPr>
        <p:blipFill>
          <a:blip r:embed="rId1"/>
          <a:stretch/>
        </p:blipFill>
        <p:spPr>
          <a:xfrm>
            <a:off x="4191120" y="76320"/>
            <a:ext cx="44193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eonardo_2" descr=""/>
          <p:cNvPicPr/>
          <p:nvPr/>
        </p:nvPicPr>
        <p:blipFill>
          <a:blip r:embed="rId1"/>
          <a:stretch/>
        </p:blipFill>
        <p:spPr>
          <a:xfrm>
            <a:off x="1447920" y="527040"/>
            <a:ext cx="579096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eonardo-campanus" descr=""/>
          <p:cNvPicPr/>
          <p:nvPr/>
        </p:nvPicPr>
        <p:blipFill>
          <a:blip r:embed="rId1"/>
          <a:stretch/>
        </p:blipFill>
        <p:spPr>
          <a:xfrm>
            <a:off x="1620720" y="152280"/>
            <a:ext cx="5618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leonardo-id-elevatum" descr=""/>
          <p:cNvPicPr/>
          <p:nvPr/>
        </p:nvPicPr>
        <p:blipFill>
          <a:blip r:embed="rId1"/>
          <a:stretch/>
        </p:blipFill>
        <p:spPr>
          <a:xfrm>
            <a:off x="1695600" y="228600"/>
            <a:ext cx="5391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lla Francesca: De Prospectiva Pigendi, 1472-14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ero_1" descr=""/>
          <p:cNvPicPr/>
          <p:nvPr/>
        </p:nvPicPr>
        <p:blipFill>
          <a:blip r:embed="rId1"/>
          <a:stretch/>
        </p:blipFill>
        <p:spPr>
          <a:xfrm>
            <a:off x="533520" y="1300320"/>
            <a:ext cx="80899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 poliedro al interior de un cu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ero_0" descr=""/>
          <p:cNvPicPr/>
          <p:nvPr/>
        </p:nvPicPr>
        <p:blipFill>
          <a:blip r:embed="rId1"/>
          <a:stretch/>
        </p:blipFill>
        <p:spPr>
          <a:xfrm>
            <a:off x="1552680" y="228600"/>
            <a:ext cx="531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 construcción perspectívica de un octae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ero_2" descr=""/>
          <p:cNvPicPr/>
          <p:nvPr/>
        </p:nvPicPr>
        <p:blipFill>
          <a:blip r:embed="rId1"/>
          <a:stretch/>
        </p:blipFill>
        <p:spPr>
          <a:xfrm>
            <a:off x="609480" y="600120"/>
            <a:ext cx="815364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1981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spectiva Pige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rucción perspectívica de un edificio con planta en forma de octae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rospettiva6" descr=""/>
          <p:cNvPicPr/>
          <p:nvPr/>
        </p:nvPicPr>
        <p:blipFill>
          <a:blip r:embed="rId1"/>
          <a:stretch/>
        </p:blipFill>
        <p:spPr>
          <a:xfrm>
            <a:off x="2862360" y="228600"/>
            <a:ext cx="60102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120" y="5562720"/>
            <a:ext cx="3124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en T y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_tyo" descr=""/>
          <p:cNvPicPr/>
          <p:nvPr/>
        </p:nvPicPr>
        <p:blipFill>
          <a:blip r:embed="rId1"/>
          <a:stretch/>
        </p:blipFill>
        <p:spPr>
          <a:xfrm>
            <a:off x="5257800" y="380880"/>
            <a:ext cx="359712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5409720"/>
            <a:ext cx="8001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iero de la Francesca: Ciudad Ideal, c. 14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idealcit_c1470_panel_60x200_galleria%20nacional_Urbino" descr=""/>
          <p:cNvPicPr/>
          <p:nvPr/>
        </p:nvPicPr>
        <p:blipFill>
          <a:blip r:embed="rId1"/>
          <a:stretch/>
        </p:blipFill>
        <p:spPr>
          <a:xfrm>
            <a:off x="76320" y="1162080"/>
            <a:ext cx="906768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440" y="3733920"/>
            <a:ext cx="16765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olo Ucce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pectiva de un cál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uccelo" descr=""/>
          <p:cNvPicPr/>
          <p:nvPr/>
        </p:nvPicPr>
        <p:blipFill>
          <a:blip r:embed="rId1"/>
          <a:stretch/>
        </p:blipFill>
        <p:spPr>
          <a:xfrm>
            <a:off x="4014720" y="76320"/>
            <a:ext cx="467208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228600" y="6019560"/>
            <a:ext cx="2209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retablo" descr=""/>
          <p:cNvPicPr/>
          <p:nvPr/>
        </p:nvPicPr>
        <p:blipFill>
          <a:blip r:embed="rId1"/>
          <a:stretch/>
        </p:blipFill>
        <p:spPr>
          <a:xfrm>
            <a:off x="3505320" y="76320"/>
            <a:ext cx="4611600" cy="67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51920" y="6400800"/>
            <a:ext cx="8915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an Van Eyck: Madonna con Canon van der Pale, 1436, o/madera, 122 x 1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21paele" descr=""/>
          <p:cNvPicPr/>
          <p:nvPr/>
        </p:nvPicPr>
        <p:blipFill>
          <a:blip r:embed="rId1"/>
          <a:stretch/>
        </p:blipFill>
        <p:spPr>
          <a:xfrm>
            <a:off x="685800" y="76320"/>
            <a:ext cx="784872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440" y="647712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pectiva de la Madonna con Canon van der Pa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van%20eyck_perspective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543800" cy="58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440" y="6172200"/>
            <a:ext cx="8001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ereck Bouts el viejo: Altar del Santo Sacaramento, 1464-67, o/madera, 185 x 2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0altar1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400440" y="609120"/>
            <a:ext cx="25146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última c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1lastsu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54957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477120" y="914400"/>
            <a:ext cx="2209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spectiva de la Última C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fig26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532116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52720" y="4038480"/>
            <a:ext cx="22100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mundi en salterio, 1125-11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salter%20mapa%20mundi_1125-50" descr=""/>
          <p:cNvPicPr/>
          <p:nvPr/>
        </p:nvPicPr>
        <p:blipFill>
          <a:blip r:embed="rId1"/>
          <a:stretch/>
        </p:blipFill>
        <p:spPr>
          <a:xfrm>
            <a:off x="533520" y="233280"/>
            <a:ext cx="459720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934320" y="1143000"/>
            <a:ext cx="1752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pamu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bst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2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bstorf%20mapamundi_123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6553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bstorf. Jardín del Edé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ebstorf_jardín%20del%20eden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55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4114800"/>
            <a:ext cx="2057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bsto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og y Mag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ebstorf_gog%20y%20magog" descr=""/>
          <p:cNvPicPr/>
          <p:nvPr/>
        </p:nvPicPr>
        <p:blipFill>
          <a:blip r:embed="rId1"/>
          <a:stretch/>
        </p:blipFill>
        <p:spPr>
          <a:xfrm>
            <a:off x="4896000" y="228600"/>
            <a:ext cx="393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3880" y="61722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a de Claudio Ptolomeo de 14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claudio%20ptolomeo_1474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543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7T16:57:35Z</dcterms:created>
  <dc:creator>lupe</dc:creator>
  <dc:description/>
  <dc:language>en-US</dc:language>
  <cp:lastModifiedBy>lupe</cp:lastModifiedBy>
  <dcterms:modified xsi:type="dcterms:W3CDTF">2008-05-04T23:56:19Z</dcterms:modified>
  <cp:revision>130</cp:revision>
  <dc:subject/>
  <dc:title>Presentación de PowerPoint</dc:title>
</cp:coreProperties>
</file>