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45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34F-725D-45A5-8BD5-61079156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E22-9D76-468A-A0FD-1ACFD44E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BD4-C1D7-4F36-B211-F9712FF4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3D2-D12F-4333-8EC4-35E5F093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700-3157-48C7-9363-49073D13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783-A763-41A2-87A4-9B31B29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C84-EAE8-49F5-BFAF-95A5B571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967-EF8A-49AC-A7D5-8D133973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E0F-6948-4D77-86A5-FA56243B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B7C-013A-4F8E-ADD0-11ED7DA4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B0D-E9D4-4176-88EF-30A579BC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0FF-6744-414D-81E1-89A0A528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1D1D-E374-4282-B837-8CC780218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macrobiano del siglo 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crobian%20Y-O_sg%20XI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78204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6172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de Henricus Martellanus, 14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henricus%20martelus_1489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172200" y="5028840"/>
            <a:ext cx="2743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pa de Gautier de Metz con la Tierra al centro del Uni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ar_metz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60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6172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n del cosmos de acuerdo a la visión de Ezequiel, S. X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rtes_cosmos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46784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866920" y="47239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tr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do de la Esf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crobosco, 14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acrobosco-Sphaera-1490-fp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143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5791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era cel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robo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acro142" descr=""/>
          <p:cNvPicPr/>
          <p:nvPr/>
        </p:nvPicPr>
        <p:blipFill>
          <a:blip r:embed="rId1"/>
          <a:stretch/>
        </p:blipFill>
        <p:spPr>
          <a:xfrm>
            <a:off x="4146480" y="228600"/>
            <a:ext cx="4473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5520" y="1447920"/>
            <a:ext cx="2667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ado de Astr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ano, S. X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n de la eclíp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apiano114" descr=""/>
          <p:cNvPicPr/>
          <p:nvPr/>
        </p:nvPicPr>
        <p:blipFill>
          <a:blip r:embed="rId1"/>
          <a:stretch/>
        </p:blipFill>
        <p:spPr>
          <a:xfrm>
            <a:off x="990720" y="276120"/>
            <a:ext cx="46130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440" y="63241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ustración de la “Divina Comedia”, Ed. de Aldo Manuzio, Venecia, 1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ante140" descr=""/>
          <p:cNvPicPr/>
          <p:nvPr/>
        </p:nvPicPr>
        <p:blipFill>
          <a:blip r:embed="rId1"/>
          <a:stretch/>
        </p:blipFill>
        <p:spPr>
          <a:xfrm>
            <a:off x="757080" y="85680"/>
            <a:ext cx="7624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5791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pectiva Albert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erspectivaAlbertiana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3746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44792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yección perspectív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img1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4876920"/>
            <a:ext cx="2286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e un paralelepípe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ribuido a Brunelles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038480" y="228600"/>
          <a:ext cx="4552920" cy="64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8600"/>
                    <a:ext cx="455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2209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en T y O de Isidoro de Sev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ar_isidoro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556272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28600" y="42667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e un suelo ajedre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berti (arri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gnola (abaj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76720" y="380880"/>
          <a:ext cx="5554440" cy="618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0880"/>
                    <a:ext cx="5554440" cy="61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943600" y="6019560"/>
            <a:ext cx="274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illa albert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92280" y="152280"/>
          <a:ext cx="414468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52280"/>
                    <a:ext cx="414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6019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pectiva Cónica.   Dur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rs_con_durero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67816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rero: Artista dibujando un laú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durer3" descr=""/>
          <p:cNvPicPr/>
          <p:nvPr/>
        </p:nvPicPr>
        <p:blipFill>
          <a:blip r:embed="rId1"/>
          <a:stretch/>
        </p:blipFill>
        <p:spPr>
          <a:xfrm>
            <a:off x="609480" y="174600"/>
            <a:ext cx="79250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rero: Artista dibujando con cu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urer1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899136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6477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copo de Barbari: Retrato de Luca Pacioli, 14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rtrait%20of%20Luca%20Pacioli" descr=""/>
          <p:cNvPicPr/>
          <p:nvPr/>
        </p:nvPicPr>
        <p:blipFill>
          <a:blip r:embed="rId1"/>
          <a:stretch/>
        </p:blipFill>
        <p:spPr>
          <a:xfrm>
            <a:off x="762120" y="25560"/>
            <a:ext cx="74674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440" y="6477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copo de Barbari: Deta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hombi" descr=""/>
          <p:cNvPicPr/>
          <p:nvPr/>
        </p:nvPicPr>
        <p:blipFill>
          <a:blip r:embed="rId1"/>
          <a:stretch/>
        </p:blipFill>
        <p:spPr>
          <a:xfrm>
            <a:off x="1447920" y="360360"/>
            <a:ext cx="603396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 Giovan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ntarsia4" descr=""/>
          <p:cNvPicPr/>
          <p:nvPr/>
        </p:nvPicPr>
        <p:blipFill>
          <a:blip r:embed="rId1"/>
          <a:stretch/>
        </p:blipFill>
        <p:spPr>
          <a:xfrm>
            <a:off x="4051440" y="76320"/>
            <a:ext cx="39495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 Giovan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ntarsia3" descr=""/>
          <p:cNvPicPr/>
          <p:nvPr/>
        </p:nvPicPr>
        <p:blipFill>
          <a:blip r:embed="rId1"/>
          <a:stretch/>
        </p:blipFill>
        <p:spPr>
          <a:xfrm>
            <a:off x="4094280" y="95400"/>
            <a:ext cx="398304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 Giovan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ntarsia-2" descr=""/>
          <p:cNvPicPr/>
          <p:nvPr/>
        </p:nvPicPr>
        <p:blipFill>
          <a:blip r:embed="rId1"/>
          <a:stretch/>
        </p:blipFill>
        <p:spPr>
          <a:xfrm>
            <a:off x="4187880" y="152280"/>
            <a:ext cx="3584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2209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en T y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-O%20edición%20del%20beato_sg%20XI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56102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ca Pacio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ina proporti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5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ustrado por Leonardo da Vi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acioli-1509-000tp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4762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440" y="64008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onardo: ilustración para la Divina Proporción de Paci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ero" descr=""/>
          <p:cNvPicPr/>
          <p:nvPr/>
        </p:nvPicPr>
        <p:blipFill>
          <a:blip r:embed="rId1"/>
          <a:stretch/>
        </p:blipFill>
        <p:spPr>
          <a:xfrm>
            <a:off x="914400" y="276120"/>
            <a:ext cx="72388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440" y="449568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onardo para Pacio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cuerp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5corps" descr=""/>
          <p:cNvPicPr/>
          <p:nvPr/>
        </p:nvPicPr>
        <p:blipFill>
          <a:blip r:embed="rId1"/>
          <a:stretch/>
        </p:blipFill>
        <p:spPr>
          <a:xfrm>
            <a:off x="4191120" y="76320"/>
            <a:ext cx="4419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eonardo_2" descr=""/>
          <p:cNvPicPr/>
          <p:nvPr/>
        </p:nvPicPr>
        <p:blipFill>
          <a:blip r:embed="rId1"/>
          <a:stretch/>
        </p:blipFill>
        <p:spPr>
          <a:xfrm>
            <a:off x="1447920" y="527040"/>
            <a:ext cx="57909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eonardo-campanus" descr=""/>
          <p:cNvPicPr/>
          <p:nvPr/>
        </p:nvPicPr>
        <p:blipFill>
          <a:blip r:embed="rId1"/>
          <a:stretch/>
        </p:blipFill>
        <p:spPr>
          <a:xfrm>
            <a:off x="1620720" y="152280"/>
            <a:ext cx="5618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eonardo-id-elevatum" descr=""/>
          <p:cNvPicPr/>
          <p:nvPr/>
        </p:nvPicPr>
        <p:blipFill>
          <a:blip r:embed="rId1"/>
          <a:stretch/>
        </p:blipFill>
        <p:spPr>
          <a:xfrm>
            <a:off x="1695600" y="228600"/>
            <a:ext cx="539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lla Francesca: De Prospectiva Pigendi, 1472-14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ero_1" descr=""/>
          <p:cNvPicPr/>
          <p:nvPr/>
        </p:nvPicPr>
        <p:blipFill>
          <a:blip r:embed="rId1"/>
          <a:stretch/>
        </p:blipFill>
        <p:spPr>
          <a:xfrm>
            <a:off x="533520" y="1300320"/>
            <a:ext cx="80899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 poliedro al interior de un c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ero_0" descr=""/>
          <p:cNvPicPr/>
          <p:nvPr/>
        </p:nvPicPr>
        <p:blipFill>
          <a:blip r:embed="rId1"/>
          <a:stretch/>
        </p:blipFill>
        <p:spPr>
          <a:xfrm>
            <a:off x="1552680" y="228600"/>
            <a:ext cx="53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 construcción perspectívica de un octae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ero_2" descr=""/>
          <p:cNvPicPr/>
          <p:nvPr/>
        </p:nvPicPr>
        <p:blipFill>
          <a:blip r:embed="rId1"/>
          <a:stretch/>
        </p:blipFill>
        <p:spPr>
          <a:xfrm>
            <a:off x="609480" y="600120"/>
            <a:ext cx="81536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1981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spectiva Pige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rucción perspectívica de un edificio con planta en forma de octae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rospettiva6" descr=""/>
          <p:cNvPicPr/>
          <p:nvPr/>
        </p:nvPicPr>
        <p:blipFill>
          <a:blip r:embed="rId1"/>
          <a:stretch/>
        </p:blipFill>
        <p:spPr>
          <a:xfrm>
            <a:off x="2862360" y="228600"/>
            <a:ext cx="6010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120" y="5562720"/>
            <a:ext cx="3124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en T y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_tyo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59712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54097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 Ciudad Ideal, c. 14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idealcit_c1470_panel_60x200_galleria%20nacional_Urbino" descr=""/>
          <p:cNvPicPr/>
          <p:nvPr/>
        </p:nvPicPr>
        <p:blipFill>
          <a:blip r:embed="rId1"/>
          <a:stretch/>
        </p:blipFill>
        <p:spPr>
          <a:xfrm>
            <a:off x="76320" y="1162080"/>
            <a:ext cx="90676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440" y="3733920"/>
            <a:ext cx="1676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olo Ucc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pectiva de un cál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uccelo" descr=""/>
          <p:cNvPicPr/>
          <p:nvPr/>
        </p:nvPicPr>
        <p:blipFill>
          <a:blip r:embed="rId1"/>
          <a:stretch/>
        </p:blipFill>
        <p:spPr>
          <a:xfrm>
            <a:off x="4014720" y="76320"/>
            <a:ext cx="467208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2209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retablo" descr=""/>
          <p:cNvPicPr/>
          <p:nvPr/>
        </p:nvPicPr>
        <p:blipFill>
          <a:blip r:embed="rId1"/>
          <a:stretch/>
        </p:blipFill>
        <p:spPr>
          <a:xfrm>
            <a:off x="3505320" y="76320"/>
            <a:ext cx="46116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51920" y="640080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n Van Eyck: Madonna con Canon van der Pale, 1436, o/madera, 122 x 1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21paele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8487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440" y="6477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pectiva de la Madonna con Canon van der P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van%20eyck_perspective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5438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ereck Bouts el viejo: Altar del Santo Sacaramento, 1464-67, o/madera, 185 x 2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altar1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400440" y="609120"/>
            <a:ext cx="2514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última c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lasts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495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77120" y="9144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pectiva de la Última C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fig26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32116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52720" y="4038480"/>
            <a:ext cx="2210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mundi en salterio, 1125-1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salter%20mapa%20mundi_1125-50" descr=""/>
          <p:cNvPicPr/>
          <p:nvPr/>
        </p:nvPicPr>
        <p:blipFill>
          <a:blip r:embed="rId1"/>
          <a:stretch/>
        </p:blipFill>
        <p:spPr>
          <a:xfrm>
            <a:off x="533520" y="233280"/>
            <a:ext cx="45972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34320" y="1143000"/>
            <a:ext cx="1752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pamu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bst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bstorf%20mapamundi_123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bstorf. Jardín del Edé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bstorf_jardín%20del%20eden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bst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og y Mag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ebstorf_gog%20y%20magog" descr=""/>
          <p:cNvPicPr/>
          <p:nvPr/>
        </p:nvPicPr>
        <p:blipFill>
          <a:blip r:embed="rId1"/>
          <a:stretch/>
        </p:blipFill>
        <p:spPr>
          <a:xfrm>
            <a:off x="4896000" y="228600"/>
            <a:ext cx="393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de Claudio Ptolomeo de 14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laudio%20ptolomeo_1474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543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6:57:35Z</dcterms:created>
  <dc:creator>lupe</dc:creator>
  <dc:description/>
  <dc:language>en-US</dc:language>
  <cp:lastModifiedBy>lupe</cp:lastModifiedBy>
  <dcterms:modified xsi:type="dcterms:W3CDTF">2008-05-04T23:56:19Z</dcterms:modified>
  <cp:revision>130</cp:revision>
  <dc:subject/>
  <dc:title>Presentación de PowerPoint</dc:title>
</cp:coreProperties>
</file>