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502E0-90A1-44DD-BBF0-AFC5BCDF3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33BFA-1FB6-4532-ADFA-B10AA52DB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38AB7-C5B1-4FAA-97DA-73E05A111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285EC-8386-466C-A84F-D9C1E9CE6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5F8E1-F107-409A-B6AD-B2FE86ACE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17010-FC64-433A-9360-B40A3EA63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F068C-7662-43CF-AF4A-D3C17D508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CD3FA-7D7B-4E61-A713-1B1022954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99828-DBA3-4C70-8BFA-67C371D8A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E659F-9339-4AB0-A1E7-73AE3461B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0D7DF-1CD4-42A7-A3F9-A4757FDD6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5CD25-7F56-4766-8EA6-1930AAC16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5C87F-9DF9-4467-BA1C-BDCDFBDDC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3C5DF-D069-4658-A6BC-99EAD08FC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51260-8FB1-4312-AF69-09B6B48C0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8DF2C2-F301-4639-AE4A-C58E0D162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BA9E4-DDE6-45EA-B96E-4F81B4FD3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6B8F3-FF4F-4A7E-A83E-89D24E6AE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6F5EC-675C-4AE0-845A-91A78AA90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FC6A2-44F3-46AC-97DF-98E8DFDC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CF40-D463-47FE-A034-20A722E7F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2AE6-ECA6-4ECA-A88C-0B4825E5E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6E386-A941-4C94-AC2B-269D776E7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41B52-727B-435B-8F9F-0489EB72C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5B2D-ED77-4C92-9DF7-3AD1E669231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61A7-BEEA-436F-8ABE-523538FC200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CMG: Diseño y Elaboración de Proyectos en Cultura.</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 Cecilia Pinochet 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Dámaris Pérez.</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lase 5: ppt 4 Lunes 11 de Abril 201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Interrogantes Clave del Proyecto:</a:t>
            </a:r>
            <a:endParaRPr b="0" lang="en-US" sz="34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Por qué?=</a:t>
            </a:r>
            <a:r>
              <a:rPr b="0" lang="es-CL" sz="2000" spc="-1" strike="noStrike">
                <a:solidFill>
                  <a:srgbClr val="000000"/>
                </a:solidFill>
                <a:latin typeface="Verdana"/>
              </a:rPr>
              <a:t>Antecedentes y Justificación.</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Qué?=</a:t>
            </a:r>
            <a:r>
              <a:rPr b="0" lang="es-CL" sz="2000" spc="-1" strike="noStrike">
                <a:solidFill>
                  <a:srgbClr val="000000"/>
                </a:solidFill>
                <a:latin typeface="Verdana"/>
              </a:rPr>
              <a:t> Objetivos generales, objetivos específicos y metas por lograr.</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Quién</a:t>
            </a:r>
            <a:r>
              <a:rPr b="0" lang="es-CL" sz="2000" spc="-1" strike="noStrike">
                <a:solidFill>
                  <a:srgbClr val="000000"/>
                </a:solidFill>
                <a:latin typeface="Verdana"/>
              </a:rPr>
              <a:t>?= Participantes y benefici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Dónde</a:t>
            </a:r>
            <a:r>
              <a:rPr b="0" lang="es-CL" sz="2000" spc="-1" strike="noStrike">
                <a:solidFill>
                  <a:srgbClr val="000000"/>
                </a:solidFill>
                <a:latin typeface="Verdana"/>
              </a:rPr>
              <a:t>?= Ubicación y context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uándo</a:t>
            </a:r>
            <a:r>
              <a:rPr b="0" lang="es-CL" sz="2000" spc="-1" strike="noStrike">
                <a:solidFill>
                  <a:srgbClr val="000000"/>
                </a:solidFill>
                <a:latin typeface="Verdana"/>
              </a:rPr>
              <a:t>?= Actividades y cronogram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ómo</a:t>
            </a:r>
            <a:r>
              <a:rPr b="0" lang="es-CL" sz="2000" spc="-1" strike="noStrike">
                <a:solidFill>
                  <a:srgbClr val="000000"/>
                </a:solidFill>
                <a:latin typeface="Verdana"/>
              </a:rPr>
              <a:t>?= Estrategias y procedimient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on qué</a:t>
            </a:r>
            <a:r>
              <a:rPr b="0" lang="es-CL" sz="2000" spc="-1" strike="noStrike">
                <a:solidFill>
                  <a:srgbClr val="000000"/>
                </a:solidFill>
                <a:latin typeface="Verdana"/>
              </a:rPr>
              <a:t>?= Recursos humanos, financieros y técnic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respuestas están en directa relación a la idea central del proyecto, sin olvidar el contexto social, cultural, artístico, político y económico que pudiera dificultar o desarrollar el proyec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enidos Básico de un Proyecto:</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1-Título/subtítulo</a:t>
            </a:r>
            <a:r>
              <a:rPr b="0" lang="es-CL" sz="2400" spc="-1" strike="noStrike">
                <a:solidFill>
                  <a:srgbClr val="000000"/>
                </a:solidFill>
                <a:latin typeface="Verdana"/>
              </a:rPr>
              <a:t>: Puede definir el tema del proyecto (aunque no necesariamente) y el subtítulo  ayuda a precisar sus contenid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Antecedentes: </a:t>
            </a:r>
            <a:r>
              <a:rPr b="0" lang="es-CL" sz="2400" spc="-1" strike="noStrike">
                <a:solidFill>
                  <a:srgbClr val="000000"/>
                </a:solidFill>
                <a:latin typeface="Verdana"/>
              </a:rPr>
              <a:t>(extensión variable),referencia histórica breve y aspectos generales del caso. Recuento de teorías, autores, corrientes, puntos de vista o similares que se hayan efectuado de este tem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Justificación: </a:t>
            </a:r>
            <a:r>
              <a:rPr b="0" lang="es-CL" sz="2400" spc="-1" strike="noStrike">
                <a:solidFill>
                  <a:srgbClr val="000000"/>
                </a:solidFill>
                <a:latin typeface="Verdana"/>
              </a:rPr>
              <a:t>(extensión variable),justificación teórica, social, cultural o personal para realizar el proyecto. Razones por lo cual debe llevarse a cab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enidos básico de un proyecto.</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4-Objetivo General</a:t>
            </a:r>
            <a:r>
              <a:rPr b="0" lang="es-CL" sz="2000" spc="-1" strike="noStrike">
                <a:solidFill>
                  <a:srgbClr val="000000"/>
                </a:solidFill>
                <a:latin typeface="Verdana"/>
              </a:rPr>
              <a:t>: (enunciado), contestación a las preguntas ¿qué? ¿para qué?, utilizando  verbos de acción, expresados en infinitivo.</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5- Objetivos específicos</a:t>
            </a:r>
            <a:r>
              <a:rPr b="0" lang="es-CL" sz="2000" spc="-1" strike="noStrike">
                <a:solidFill>
                  <a:srgbClr val="000000"/>
                </a:solidFill>
                <a:latin typeface="Verdana"/>
              </a:rPr>
              <a:t>: (tres como máximo),precisión de las diferentes actividades que se pretenden realizar.</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6-Metas</a:t>
            </a:r>
            <a:r>
              <a:rPr b="0" lang="es-CL" sz="2000" spc="-1" strike="noStrike">
                <a:solidFill>
                  <a:srgbClr val="000000"/>
                </a:solidFill>
                <a:latin typeface="Verdana"/>
              </a:rPr>
              <a:t>: (enunciado).precisión cuantitativa de las actividades, acciones o productos resultantes del proyecto.</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7- Cronograma de actividades</a:t>
            </a:r>
            <a:r>
              <a:rPr b="0" lang="es-CL" sz="2000" spc="-1" strike="noStrike">
                <a:solidFill>
                  <a:srgbClr val="000000"/>
                </a:solidFill>
                <a:latin typeface="Verdana"/>
              </a:rPr>
              <a:t>: cartas gantt de tiempo (fraccionado en semanas o meses) que contiene las principales actividades a realizar.</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8- Bibliografía básica</a:t>
            </a:r>
            <a:r>
              <a:rPr b="0" lang="es-CL" sz="2000" spc="-1" strike="noStrike">
                <a:solidFill>
                  <a:srgbClr val="000000"/>
                </a:solidFill>
                <a:latin typeface="Verdana"/>
              </a:rPr>
              <a:t>:(si se requiere), publicaciones de referencia a los diversos planteamientos del tema central del proyec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iseño y Elaboración de Proyectos Culturales: D. Roselló.</a:t>
            </a:r>
            <a:endParaRPr b="0" lang="en-US" sz="34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 la elaboración de proyectos realizamos varias investigaciones, análisis , propuestas y tomas de decisiones (que no se presentan en el proyecto fina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 nivel de diseño, planeación o planificación se trabajo  en tres niveles diferentes que se concretan y relacionan entre sí.</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a:t>
            </a:r>
            <a:r>
              <a:rPr b="1" lang="es-CL" sz="2400" spc="-1" strike="noStrike">
                <a:solidFill>
                  <a:srgbClr val="000000"/>
                </a:solidFill>
                <a:latin typeface="Verdana"/>
              </a:rPr>
              <a:t>Pla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 Progra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 Proyec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lan:</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el conjunto de grandes líneas directrices que indican prioridades y orientan una voluntad de intervención.. Se plantea a nivel general y de amplia base conceptual, filosófica o política. Un plan es la plasmación de unas directrices políticas, suele trazarse a medio o largo plazo, abarcando un amplio conjunto de temas o aspectos incluidos en él. Por su visión amplia, el plan suele asociarse a un nivel estratég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j</a:t>
            </a:r>
            <a:r>
              <a:rPr b="0" lang="es-CL" sz="2400" spc="-1" strike="noStrike">
                <a:solidFill>
                  <a:srgbClr val="000000"/>
                </a:solidFill>
                <a:latin typeface="Verdana"/>
              </a:rPr>
              <a:t>. El plan estratégico del sector cultural de una región o ciudad, un plan general de bibliotecas, un plan director de patrimonio,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am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 una primera concreción del plan. Recoge las líneas directrices del plan y las aplica a un aspecto concreto, por sectores (programa de artes escénicas), por edades (programa de juventud), por funciones (programa de  apoyo a la creación). Un programa es un conjunto de proyectos que comparten una orientación común</a:t>
            </a:r>
            <a:r>
              <a:rPr b="0" lang="es-CL"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rPr>
              <a:t>Ej. el programa de apoyo a la creación artística dentro del plan estratégico, programa de publicaciones del muse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yecto:</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la línea más operativa de nuestra intervención. Parte de los programas y los desarrolla y materializa en acciones concretas que agrupamos bajo el nombre de proyecto. Es la unidad mínima de actuación con sentido global en sí misma. Se concreta en actividades o acciones que sólo tienen razón de ser en cuanto forman parte del proyecto y que deriva de un programa definido anteriormente</a:t>
            </a:r>
            <a:r>
              <a:rPr b="0" lang="es-CL"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1- La Idea</a:t>
            </a:r>
            <a:r>
              <a:rPr b="0" lang="es-CL" sz="2400" spc="-1" strike="noStrike">
                <a:solidFill>
                  <a:srgbClr val="000000"/>
                </a:solidFill>
                <a:latin typeface="Verdana"/>
              </a:rPr>
              <a:t>: es el inicio de un proyecto.. Identifica el punto de partida y le da sentid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 El primer Esbozo</a:t>
            </a:r>
            <a:r>
              <a:rPr b="0" lang="es-CL" sz="2400" spc="-1" strike="noStrike">
                <a:solidFill>
                  <a:srgbClr val="000000"/>
                </a:solidFill>
                <a:latin typeface="Verdana"/>
              </a:rPr>
              <a:t>: la simple idea se transforma en un pequeño desarrollo en el que se concretan, de manera todavía genérica, algunas propuestas, algún dato relevante en cuanto a espacios, tiempo, personas, temas que se plantean en torno a una realidad que todos comparte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 El Anteproyecto: </a:t>
            </a:r>
            <a:r>
              <a:rPr b="0" lang="es-CL" sz="2400" spc="-1" strike="noStrike">
                <a:solidFill>
                  <a:srgbClr val="000000"/>
                </a:solidFill>
                <a:latin typeface="Verdana"/>
              </a:rPr>
              <a:t>De acuerdo el equipo de trabajo se avanza en el desarrollo de los puntos a trat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parecen los capítulos que conformarán el proyecto. Se analiza el contexto con más detalle.. Se profundiza más en la propuestas, definidas, pero no planificadas, ni gestionadas y menos evaluad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4- El Proyecto a implementar: </a:t>
            </a:r>
            <a:r>
              <a:rPr b="0" lang="es-CL" sz="2400" spc="-1" strike="noStrike">
                <a:solidFill>
                  <a:srgbClr val="000000"/>
                </a:solidFill>
                <a:latin typeface="Verdana"/>
              </a:rPr>
              <a:t>Es lo más parecido a la realidad que se tiene justo antes de llevar a cabo el proyecto. Contiene todo el detalle necesario para su ejecución, tanto al nivel de las ideas, las acciones, la gestión. Es el manual de trabajo para el equip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5- El Proyecto realizado</a:t>
            </a:r>
            <a:r>
              <a:rPr b="0" lang="es-CL" sz="2400" spc="-1" strike="noStrike">
                <a:solidFill>
                  <a:srgbClr val="000000"/>
                </a:solidFill>
                <a:latin typeface="Verdana"/>
              </a:rPr>
              <a:t>: Es el proyecto definitivo y es el resultante de la incorporación de todos los cambios  habidos durante su realización. Ejerce de memoria en algunos casos. Significa el cierre definitivo del ciclo vital de todo proyecto cultur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TA: de la misma manera que existen distintas etapas de vida de un proyecto, también existen diferentes versiones o presentaciones de un mismo proyecto en el espacio.(elaboramos distintos según nuestro interlocutor válid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Diseño y Evaluación de Proyectos. David Roselló.”Diseño y Evaluación de Proyectos Culturales</a:t>
            </a:r>
            <a:r>
              <a:rPr b="1" lang="es-CL" sz="3400" spc="-1" strike="noStrike">
                <a:solidFill>
                  <a:srgbClr val="000000"/>
                </a:solidFill>
                <a:latin typeface="Verdana"/>
              </a:rPr>
              <a:t>”.</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Proyecto como herramienta de trabajo en la gestión cultural</a:t>
            </a:r>
            <a:r>
              <a:rPr b="1" lang="es-CL" sz="3000" spc="-1" strike="noStrike">
                <a:solidFill>
                  <a:srgbClr val="000000"/>
                </a:solidFill>
                <a:latin typeface="Verdana"/>
              </a:rPr>
              <a:t>. </a:t>
            </a:r>
            <a:r>
              <a:rPr b="0" lang="es-CL" sz="2400" spc="-1" strike="noStrike">
                <a:solidFill>
                  <a:srgbClr val="000000"/>
                </a:solidFill>
                <a:latin typeface="Verdana"/>
              </a:rPr>
              <a:t>No basta con las buenas ideas, dependen del diseño de proyectos. Este autor ha sido parte importante en la construcción de proyectos culturales lo que le ha proporcionado un marco conceptual en el campo de la gestión de la cultur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La gestión cultural es el </a:t>
            </a:r>
            <a:r>
              <a:rPr b="1" lang="es-CL" sz="2400" spc="-1" strike="noStrike">
                <a:solidFill>
                  <a:srgbClr val="000000"/>
                </a:solidFill>
                <a:latin typeface="Verdana"/>
              </a:rPr>
              <a:t>espacio de las ideas, </a:t>
            </a:r>
            <a:r>
              <a:rPr b="0" lang="es-CL" sz="2400" spc="-1" strike="noStrike">
                <a:solidFill>
                  <a:srgbClr val="000000"/>
                </a:solidFill>
                <a:latin typeface="Verdana"/>
              </a:rPr>
              <a:t>sin ellas nada sería posible sin un buen diseño que las convierta en una </a:t>
            </a:r>
            <a:r>
              <a:rPr b="1" lang="es-CL" sz="2400" spc="-1" strike="noStrike">
                <a:solidFill>
                  <a:srgbClr val="000000"/>
                </a:solidFill>
                <a:latin typeface="Verdana"/>
              </a:rPr>
              <a:t>gestión efici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nterlocutores de un Proyecto:</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a Dirección:</a:t>
            </a:r>
            <a:r>
              <a:rPr b="0" lang="es-CL" sz="2400" spc="-1" strike="noStrike">
                <a:solidFill>
                  <a:srgbClr val="000000"/>
                </a:solidFill>
                <a:latin typeface="Verdana"/>
              </a:rPr>
              <a:t> destacamos los objetivos a corto, mediano y largo plaz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medios de comunicación:  </a:t>
            </a:r>
            <a:r>
              <a:rPr b="0" lang="es-CL" sz="2400" spc="-1" strike="noStrike">
                <a:solidFill>
                  <a:srgbClr val="000000"/>
                </a:solidFill>
                <a:latin typeface="Verdana"/>
              </a:rPr>
              <a:t>les presentamos aquellos aspectos del proyecto con más impacto mediático</a:t>
            </a:r>
            <a:r>
              <a:rPr b="1" lang="es-CL"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Patrocinadores:  </a:t>
            </a:r>
            <a:r>
              <a:rPr b="0" lang="es-CL" sz="2400" spc="-1" strike="noStrike">
                <a:solidFill>
                  <a:srgbClr val="000000"/>
                </a:solidFill>
                <a:latin typeface="Verdana"/>
              </a:rPr>
              <a:t>les interesará sobre todo la presencia en imagen, tipo de público al que va dirigido nuestro proyecto, la repercusión de su aportación y las instituciones convocant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nterlocutore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Artistas</a:t>
            </a:r>
            <a:r>
              <a:rPr b="0" lang="es-CL" sz="2400" spc="-1" strike="noStrike">
                <a:solidFill>
                  <a:srgbClr val="000000"/>
                </a:solidFill>
                <a:latin typeface="Verdana"/>
              </a:rPr>
              <a:t>: mostraremos el significado global del proyecto, su impacto en la población, el papel de su participación, los otros artistas implicados, las entidades convocantes y los datos concretos de su actua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Las Entidades y colectivos sociales</a:t>
            </a:r>
            <a:r>
              <a:rPr b="0" lang="es-CL" sz="2400" spc="-1" strike="noStrike">
                <a:solidFill>
                  <a:srgbClr val="000000"/>
                </a:solidFill>
                <a:latin typeface="Verdana"/>
              </a:rPr>
              <a:t>: les importará conocer la finalidad del proyecto, la repercusión en su territorio o sector de influencia, el papel de su participación y los otros agentes implic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aller 4:</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Buscar dentro de las políticas culturales del CNCA, Plan, Programas y Proyectos dentro de la línea que investigar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lantee las interrogantes calve de su proyecto, ¿qué?, ¿para qué?, ¿cuándo?, ¿cómo? Et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dentifique las etapas de su proyect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selló….</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utor se basa en tres fuent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1- </a:t>
            </a:r>
            <a:r>
              <a:rPr b="1" lang="es-CL" sz="2000" spc="-1" strike="noStrike">
                <a:solidFill>
                  <a:srgbClr val="000000"/>
                </a:solidFill>
                <a:latin typeface="Verdana"/>
              </a:rPr>
              <a:t>La formación</a:t>
            </a:r>
            <a:r>
              <a:rPr b="0" lang="es-CL" sz="2000" spc="-1" strike="noStrike">
                <a:solidFill>
                  <a:srgbClr val="000000"/>
                </a:solidFill>
                <a:latin typeface="Verdana"/>
              </a:rPr>
              <a:t>: profesional y universitaria en el Programa de Postgrado, en Barcelon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2- </a:t>
            </a:r>
            <a:r>
              <a:rPr b="1" lang="es-CL" sz="2000" spc="-1" strike="noStrike">
                <a:solidFill>
                  <a:srgbClr val="000000"/>
                </a:solidFill>
                <a:latin typeface="Verdana"/>
              </a:rPr>
              <a:t>La supervisión</a:t>
            </a:r>
            <a:r>
              <a:rPr b="0" lang="es-CL" sz="2000" spc="-1" strike="noStrike">
                <a:solidFill>
                  <a:srgbClr val="000000"/>
                </a:solidFill>
                <a:latin typeface="Verdana"/>
              </a:rPr>
              <a:t>: tutorías y supervisión de 300 proyectos de profesionales activos. (diversidad y complejidad de casos real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3- </a:t>
            </a:r>
            <a:r>
              <a:rPr b="1" lang="es-CL" sz="2000" spc="-1" strike="noStrike">
                <a:solidFill>
                  <a:srgbClr val="000000"/>
                </a:solidFill>
                <a:latin typeface="Verdana"/>
              </a:rPr>
              <a:t>El diseño: </a:t>
            </a:r>
            <a:r>
              <a:rPr b="0" lang="es-CL" sz="2000" spc="-1" strike="noStrike">
                <a:solidFill>
                  <a:srgbClr val="000000"/>
                </a:solidFill>
                <a:latin typeface="Verdana"/>
              </a:rPr>
              <a:t>ha realizado</a:t>
            </a:r>
            <a:r>
              <a:rPr b="1" lang="es-CL" sz="2000" spc="-1" strike="noStrike">
                <a:solidFill>
                  <a:srgbClr val="000000"/>
                </a:solidFill>
                <a:latin typeface="Verdana"/>
              </a:rPr>
              <a:t> </a:t>
            </a:r>
            <a:r>
              <a:rPr b="0" lang="es-CL" sz="2000" spc="-1" strike="noStrike">
                <a:solidFill>
                  <a:srgbClr val="000000"/>
                </a:solidFill>
                <a:latin typeface="Verdana"/>
              </a:rPr>
              <a:t>asesorías, diseños y supervisión  de proyectos culturales confrontados con la realidad y posteriormente llevados a cab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A: En el sector de la gestión cultural, ha faltado elaboración y conceptualización de tipo profesional que vaya más allá de los discursos teóricos sobre la cultur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selló……</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 todavía hay falencias en el sector, cuáles son las herramientas que un gestor cultural debe tomar? Lo cierto es que no hay realidades similares entre las distintas culturas y no hay esquemas que se puedan repeti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mejor proyecto, no es el técnicamente bien logrado, sino aquel que está bien </a:t>
            </a:r>
            <a:r>
              <a:rPr b="1" lang="es-CL" sz="2400" spc="-1" strike="noStrike">
                <a:solidFill>
                  <a:srgbClr val="000000"/>
                </a:solidFill>
                <a:latin typeface="Verdana"/>
              </a:rPr>
              <a:t>fundamentado  en sus finalidades</a:t>
            </a:r>
            <a:r>
              <a:rPr b="0" lang="es-CL" sz="2400" spc="-1" strike="noStrike">
                <a:solidFill>
                  <a:srgbClr val="000000"/>
                </a:solidFill>
                <a:latin typeface="Verdana"/>
              </a:rPr>
              <a:t> y contextos y posteriormente bien presentado para su comprensión. (se refiere al sentido de un proyec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finicion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n proyecto tiene siempre los mismos elementos que se repiten: ‘La </a:t>
            </a:r>
            <a:r>
              <a:rPr b="1" lang="es-CL" sz="2400" spc="-1" strike="noStrike">
                <a:solidFill>
                  <a:srgbClr val="000000"/>
                </a:solidFill>
                <a:latin typeface="Verdana"/>
              </a:rPr>
              <a:t>voluntad de logra’ , mediante el uso de recursos con los que contamos. Un proyecto es la manera de ‘generar un cambio’, una mejora en nuestro entorn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Un proyecto cultural es una secuencia ordenada de decisiones sobre tareas y recursos, encaminadas a lograr unos objetivos en unas determinadas condicion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efiniciones sobre la gestión cultural.</a:t>
            </a:r>
            <a:endParaRPr b="0" lang="en-US" sz="34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Diseño</a:t>
            </a:r>
            <a:r>
              <a:rPr b="0" lang="es-CL" sz="2400" spc="-1" strike="noStrike">
                <a:solidFill>
                  <a:srgbClr val="000000"/>
                </a:solidFill>
                <a:latin typeface="Verdana"/>
              </a:rPr>
              <a:t>: en el trabajo de proyectos se presenta como el </a:t>
            </a:r>
            <a:r>
              <a:rPr b="1" lang="es-CL" sz="2400" spc="-1" strike="noStrike">
                <a:solidFill>
                  <a:srgbClr val="000000"/>
                </a:solidFill>
                <a:latin typeface="Verdana"/>
              </a:rPr>
              <a:t>‘instrumento</a:t>
            </a:r>
            <a:r>
              <a:rPr b="0" lang="es-CL" sz="2400" spc="-1" strike="noStrike">
                <a:solidFill>
                  <a:srgbClr val="000000"/>
                </a:solidFill>
                <a:latin typeface="Verdana"/>
              </a:rPr>
              <a:t>’ que utilizamos para desarrollar las ‘</a:t>
            </a:r>
            <a:r>
              <a:rPr b="1" lang="es-CL" sz="2400" spc="-1" strike="noStrike">
                <a:solidFill>
                  <a:srgbClr val="000000"/>
                </a:solidFill>
                <a:latin typeface="Verdana"/>
              </a:rPr>
              <a:t>ideas</a:t>
            </a:r>
            <a:r>
              <a:rPr b="0" lang="es-CL" sz="2400" spc="-1" strike="noStrike">
                <a:solidFill>
                  <a:srgbClr val="000000"/>
                </a:solidFill>
                <a:latin typeface="Verdana"/>
              </a:rPr>
              <a:t>’ expuestas y </a:t>
            </a:r>
            <a:r>
              <a:rPr b="1" lang="es-CL" sz="2400" spc="-1" strike="noStrike">
                <a:solidFill>
                  <a:srgbClr val="000000"/>
                </a:solidFill>
                <a:latin typeface="Verdana"/>
              </a:rPr>
              <a:t>‘concretarlas</a:t>
            </a:r>
            <a:r>
              <a:rPr b="0" lang="es-CL" sz="2400" spc="-1" strike="noStrike">
                <a:solidFill>
                  <a:srgbClr val="000000"/>
                </a:solidFill>
                <a:latin typeface="Verdana"/>
              </a:rPr>
              <a:t>’ en ac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a función de los proyectos es lograr ‘resultados’ no realizar ac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Los proyectos son herramientas ‘colectivas’ y</a:t>
            </a:r>
            <a:r>
              <a:rPr b="0" lang="es-CL" sz="2400" spc="-1" strike="noStrike">
                <a:solidFill>
                  <a:srgbClr val="000000"/>
                </a:solidFill>
                <a:latin typeface="Verdana"/>
              </a:rPr>
              <a:t> </a:t>
            </a:r>
            <a:r>
              <a:rPr b="1" lang="es-CL" sz="2400" spc="-1" strike="noStrike">
                <a:solidFill>
                  <a:srgbClr val="000000"/>
                </a:solidFill>
                <a:latin typeface="Verdana"/>
              </a:rPr>
              <a:t>‘compartidas</a:t>
            </a:r>
            <a:r>
              <a:rPr b="0" lang="es-CL" sz="2400" spc="-1" strike="noStrike">
                <a:solidFill>
                  <a:srgbClr val="000000"/>
                </a:solidFill>
                <a:latin typeface="Verdana"/>
              </a:rPr>
              <a:t>’ que se deben usar para el buen desarrollo de nuestra actuación y no un fin en si mism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finición: Proyecto Cultural:</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 aquel que aplica metodologías, maneja energía humana y posee rasgos distintivos espirituales, materiales, intelectuales o afectivos de una sociedad o grupo social, que comprende los estilos de vida, las formas de convivencia, los sistemas de valores, las tradiciones o creencias.</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de las características de los proyectos culturales, es su gran flexibilidad para adaptarse a diferentes contextos y circunstancias, ya que incorpora variables de muy difícil control y a veces se conduce por caminos de lo intangible.</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propósito de un proyecto cultural es alcanzar resultados concretos, de alto impacto en su público, dentro de los límites de un presupuesto y tiempo determinado, de acuerdo con los objetivos previstos en su diseñ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diciones de un Proyecto Cultural:</a:t>
            </a:r>
            <a:endParaRPr b="0" lang="en-US" sz="34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1-Debe ser ‘</a:t>
            </a:r>
            <a:r>
              <a:rPr b="1" lang="es-CL" sz="2600" spc="-1" strike="noStrike">
                <a:solidFill>
                  <a:srgbClr val="000000"/>
                </a:solidFill>
                <a:latin typeface="Verdana"/>
              </a:rPr>
              <a:t>realista’ y bien fundamentado</a:t>
            </a:r>
            <a:r>
              <a:rPr b="0" lang="es-CL" sz="2600" spc="-1" strike="noStrike">
                <a:solidFill>
                  <a:srgbClr val="000000"/>
                </a:solidFill>
                <a:latin typeface="Verdana"/>
              </a:rPr>
              <a:t>, de lo contrario sería poco viabl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2-Debe ser ‘</a:t>
            </a:r>
            <a:r>
              <a:rPr b="1" lang="es-CL" sz="2600" spc="-1" strike="noStrike">
                <a:solidFill>
                  <a:srgbClr val="000000"/>
                </a:solidFill>
                <a:latin typeface="Verdana"/>
              </a:rPr>
              <a:t>preciso</a:t>
            </a:r>
            <a:r>
              <a:rPr b="0" lang="es-CL" sz="2600" spc="-1" strike="noStrike">
                <a:solidFill>
                  <a:srgbClr val="000000"/>
                </a:solidFill>
                <a:latin typeface="Verdana"/>
              </a:rPr>
              <a:t>’, que se exprese en términos concretos y no como una expresión de buenos propósitos, o plantearse en términos vagos o supuestos o interpretaciones parcial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ben ser ‘</a:t>
            </a:r>
            <a:r>
              <a:rPr b="1" lang="es-CL" sz="2600" spc="-1" strike="noStrike">
                <a:solidFill>
                  <a:srgbClr val="000000"/>
                </a:solidFill>
                <a:latin typeface="Verdana"/>
              </a:rPr>
              <a:t>completos’,</a:t>
            </a:r>
            <a:r>
              <a:rPr b="0" lang="es-CL" sz="2600" spc="-1" strike="noStrike">
                <a:solidFill>
                  <a:srgbClr val="000000"/>
                </a:solidFill>
                <a:latin typeface="Verdana"/>
              </a:rPr>
              <a:t> lo que implica señalar todos los factores externos que condicionan el éxito del proyec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racterísticas del Proyecto Artístico o Cultural:…….</a:t>
            </a:r>
            <a:endParaRPr b="0" lang="en-US" sz="34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unque cada proyecto artístico posee sus propias peculiaridades, debido a que atienden diferentes necesidades, comparten cosas en comú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 Ambos requieren de un proceso en ‘continuo  para cumplir sus objetiv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B- Establecen la combinación de ‘recursos humanos, materiales y financier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 Obedecen a un orden y articulación predeterminada.</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 Se realizan en un tiempo y espacio preestablecid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 Se justifican por la necesidad de una situación o problema que se requiere atender.</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F- Sus productos finales  sacudirán nuestros sentidos o emocion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4:31:03Z</dcterms:created>
  <dc:creator>Lenovo</dc:creator>
  <dc:description/>
  <dc:language>en-US</dc:language>
  <cp:lastModifiedBy>Lenovo</cp:lastModifiedBy>
  <dcterms:modified xsi:type="dcterms:W3CDTF">2011-04-11T16:55:07Z</dcterms:modified>
  <cp:revision>10</cp:revision>
  <dc:subject/>
  <dc:title>CMG: Diseño y Elaboración de Proyectos en Cultura.</dc:title>
</cp:coreProperties>
</file>