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6C76-085F-446E-9D91-99F7C8A1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576E-D3F7-4FC9-962D-C965CC02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BFE-43B0-4765-8A1D-8527B14C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CCD-31C4-430F-B1B3-019A7641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9B81-49CA-422C-9405-3570A39C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0B9A-373B-4188-9E91-207219D6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B04C-76C0-467C-8AB8-0AA280F9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C12-106A-4602-B37B-87E46382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196F-6D18-4CF4-A905-63A0B3DE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1BE1-CFF4-4AEF-AE9B-6414EC9A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D573-7C77-471F-AAFC-7F95AD12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C31E-A231-4676-A61B-847B1D97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F351-B5DC-4477-A048-36B7C4C23AE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14800" y="3962160"/>
            <a:ext cx="4648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RDINAND de  SAUSS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57-19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495680" y="30492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274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80880"/>
            <a:ext cx="8001000" cy="61722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erdinand de Saussure estableció que el signo era 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oneda de dos car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un lado 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cep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por el otro la percepción acústica o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ercep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3505320"/>
            <a:ext cx="4038840" cy="236196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cep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cepción acú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743200" y="4647960"/>
            <a:ext cx="3505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66996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762120"/>
            <a:ext cx="4648320" cy="266688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CION ACÚ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0574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914400" y="990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990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2819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5080" y="4251240"/>
            <a:ext cx="488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ercepción acústica no es el so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sino su HUELLA PSÍQU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 lo tanto, el signo es una e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íquica de dos caras un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57200"/>
            <a:ext cx="2590920" cy="167652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219320"/>
            <a:ext cx="25909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57200" y="609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685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32004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SIGNIFICANTE (STE)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BITRARI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 relación con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1905120"/>
            <a:ext cx="221004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394668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 e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minio cer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signo es impuesto a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unidad que lo empl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 lo cerrado del sig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ón indisol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o 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ran 2 caras de un mismo pa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1295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1050840"/>
            <a:ext cx="459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dos flechas aluden a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mplicación recíproc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ntre amb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1295280"/>
            <a:ext cx="25146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2080" y="2117880"/>
            <a:ext cx="36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línea horizontal adqui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 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ín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65040"/>
            <a:ext cx="917568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 anterior grafica la significación interna al signo, pero Sau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e que la SIGNIFICACIÓN muchas veces se confunde con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basta decir que tal o cual signo tiene tal o cual SIGN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necesario </a:t>
            </a: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compararlo con los otros signos de la lengu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Esto 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ce decir a Saussure que en la Lengua sólo hay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FERENCI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que permiten establecer relac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RELACIONES SE DESPLIEGAN EN 2 ÓRDENES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RRESPONDEN A 2 FORMAS DE LA ACTIVIDAD 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4495680"/>
            <a:ext cx="3352680" cy="22100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ta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d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51240" y="4670280"/>
            <a:ext cx="4587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EAL : Excluye pronunciar 2 palabras a la vez. Esta combinación que se organiza en la extensión se ll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NTAGM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Un término adquier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orque se opone al que le precede y al que le sig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o hay relacione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SOCIATIVAS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Las palabras se asocian en la memoria formando grupos diversos. Son lo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DIGMA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tesoro interior de la lengu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53341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752480" y="50292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228600"/>
            <a:ext cx="8534520" cy="53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SINTAGMÁT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PARADIG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iderados también como ej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l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primer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los signos se relacionan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in praesent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oposi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unos con respecto a otro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l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segun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los signos se relacionan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in absent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por las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asociaciones  y evocacion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que surgen a partir de ellos). Una columna dórica nos hace pensar en una jónica o en una de orden corint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Sinta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4876920"/>
            <a:ext cx="4343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257000" y="3656880"/>
            <a:ext cx="13320" cy="2391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263800">
            <a:off x="3512880" y="4876920"/>
            <a:ext cx="20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rad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8600"/>
            <a:ext cx="8382240" cy="66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conceptos fundamentales e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aussur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ISTEMA y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los signos es diferente de la significación (tal vez más importante, pues surge de las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laciones que se establece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ntre los elementos dentro del sistema, de sus oposiciones y asociaciones, constituye sus articul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semiología estudia la vida de los signos en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»La distinción entre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LENGU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H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engu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Sistema colectivo de sig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Acto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809880" y="601992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629400" y="4572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457200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228600"/>
            <a:ext cx="838224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»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SINCRONÍ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DIACRON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iderados como ejes (vertical y horizontal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rimero considera la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simultaneida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egundo la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suces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;                      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rimero  es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estát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egundo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dinámico o evolutiv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rimero estudia la lengua de manera fija, en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estado establ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sin considerar su evolución social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egundo no hace abstracción del tiempo, sino que estudia los fenómenos lingüísticos en su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proceso histó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2666880"/>
            <a:ext cx="3276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934320" y="2438280"/>
            <a:ext cx="0" cy="99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66680" y="1143000"/>
            <a:ext cx="7543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DO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ST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(lengu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ST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DO (mun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52480" y="2895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12193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3808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LGORITMO SEMIÓ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8:50:09Z</dcterms:created>
  <dc:creator>Unidad Multimedia</dc:creator>
  <dc:description/>
  <dc:language>en-US</dc:language>
  <cp:lastModifiedBy>Unidad Multimedia</cp:lastModifiedBy>
  <dcterms:modified xsi:type="dcterms:W3CDTF">1970-01-09T08:34:06Z</dcterms:modified>
  <cp:revision>25</cp:revision>
  <dc:subject/>
  <dc:title>De  SAUSSURE</dc:title>
</cp:coreProperties>
</file>