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525-1168-46DB-8D88-2905D67F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E42-3037-4901-8AAD-A29C329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1FE-8190-4686-9CBC-9CF0EEC2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0A5-F99D-4335-82A3-A9EEA4E5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9B4-C545-43B7-AD70-826B08D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DF9-DE25-46AD-8424-CF77E6F4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C88-E45A-4289-8005-B98CF181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2EE-F353-4C07-977A-92D206E9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D08-3869-4B01-915F-5589E4B2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B25-D182-42D8-BEB0-8AF0C888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411-FD30-409D-85D5-1EAB253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12B-5993-464F-A9A6-02F78CF7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1BF1-1A2D-40A0-80D4-CC6BC9816F0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800" y="3962160"/>
            <a:ext cx="4648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DINAND de  SAUSS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57-19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27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8001000" cy="61722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rdinand de Saussure estableció que el signo er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eda de dos car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un lado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por el otro la percepción acústica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3505320"/>
            <a:ext cx="4038840" cy="23619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pción acú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4647960"/>
            <a:ext cx="3505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996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464832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CION ACÚ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057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1440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080" y="4251240"/>
            <a:ext cx="48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ercepción acústica no es el 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sino su HUELLA PSÍQU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lo tanto, el signo es una 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íquica de dos cara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"/>
            <a:ext cx="2590920" cy="167652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19320"/>
            <a:ext cx="2590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7200" y="609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685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IGNIFICANTE (STE)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ITRA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relación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9051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4668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inio cer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igno es impuesto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dad que lo empl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 lo cerrado del si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ón indisol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ran 2 caras de un mismo p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1050840"/>
            <a:ext cx="45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dos flechas aluden 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licación recípro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amb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952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2080" y="2117880"/>
            <a:ext cx="36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ínea horizontal adqui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n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5040"/>
            <a:ext cx="91756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 anterior grafica la significación interna al signo, pero Sau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e que la SIGNIFICACIÓN muchas veces se confunde 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basta decir que tal o cual signo tiene tal o cual SIGN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necesario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compararlo con los otros signos de la 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sto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ce decir a Saussure que en la Lengua sólo ha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que permiten establecer rel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RELACIONES SE DESPLIEGAN EN 2 ÓRDEN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EN A 2 FORMAS DE LA ACTIVIDAD 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95680"/>
            <a:ext cx="3352680" cy="2210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1240" y="4670280"/>
            <a:ext cx="458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EAL : Excluye pronunciar 2 palabras a la vez. Esta combinación que se organiza en la extensión se ll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TAG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Un término adqui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orque se opone al que le precede y al que le sig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o hay relacione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OCIATIVA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s palabras se asocian en la memoria formando grupos diversos. Son lo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DIGM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tesoro interior de la lengu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334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75248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8600"/>
            <a:ext cx="8534520" cy="53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SINTAGM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ARADIG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también como ej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im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 prae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o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nos con respecto a otro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egu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los signos se relaciona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in absent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por la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asociaciones  y evoca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surgen a partir de ellos). Una columna dórica nos hace pensar en una jónica o en una de orden corin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int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876920"/>
            <a:ext cx="4343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257000" y="3656880"/>
            <a:ext cx="13320" cy="2391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263800">
            <a:off x="3512880" y="487692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8600"/>
            <a:ext cx="8382240" cy="66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conceptos fundamentales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ussu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STEMA y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signos es diferente de la significación (tal vez más importante, pues surge de la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laciones que se establec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tre los elementos dentro del sistema, de sus oposiciones y asociaciones, constituye sus articu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emiología estudia la vida de los signos en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La distinción entr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LENG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Sistema colectivo de sig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t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09880" y="601992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629400" y="4572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228600"/>
            <a:ext cx="83822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NCRON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ACRON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dos como ejes (vertical y horizontal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considera la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simultane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uces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           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 es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á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inámico o evolu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imero estudia la lengua de manera fija, en </a:t>
            </a: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stado estab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sin considerar su evolución social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gundo no hace abstracción del tiempo, sino que estudia los fenómenos lingüísticos en su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roceso hist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66688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934320" y="243828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1143000"/>
            <a:ext cx="7543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(leng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S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DO (mun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895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2193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80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GORITMO SEMIÓ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8:50:09Z</dcterms:created>
  <dc:creator>Unidad Multimedia</dc:creator>
  <dc:description/>
  <dc:language>en-US</dc:language>
  <cp:lastModifiedBy>Unidad Multimedia</cp:lastModifiedBy>
  <dcterms:modified xsi:type="dcterms:W3CDTF">1970-01-09T08:34:06Z</dcterms:modified>
  <cp:revision>25</cp:revision>
  <dc:subject/>
  <dc:title>De  SAUSSURE</dc:title>
</cp:coreProperties>
</file>