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76F-A66C-4B50-85F9-C790B3CA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281-DF68-4711-AD1B-2F73CC81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730-7E46-49BF-A33E-E9746995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127-7590-4F08-9431-99493F83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F3E-69D7-44CD-AFE5-53374240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919-68B9-4289-9B5E-32F432E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8CC-2F95-4480-8556-924B4FEA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6EB-9772-422C-9C8F-D6AA4531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8F3-F49D-402F-9EB5-53C1514E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D87-5CB2-457C-B511-34CBF37A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B97-EE32-4A77-96B3-ED22F9D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128-4386-48F8-AE01-20B7F8E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C0F6-312D-4910-AD0A-AFB88E1AD5E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39621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DINAND de  SAUSS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57-19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7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8001000" cy="6172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rdinand de Saussure estableció que el signo er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eda de dos car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lado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or el otro la percepción acústic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505320"/>
            <a:ext cx="4038840" cy="2361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ción acú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996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464832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CION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080" y="4251240"/>
            <a:ext cx="48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cepción acústica no es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ino su HUELLA PSÍ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lo tanto, el signo es un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íquica de dos cara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"/>
            <a:ext cx="2590920" cy="1676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2590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" y="609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GNIFICANTE (STE)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relación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466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i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gno es impuest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dad que lo emp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 lo cerrado del s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ón indisol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an 2 caras de un mismo p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1050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os flechas aluden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icación recípro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952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080" y="2117880"/>
            <a:ext cx="36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ínea horizontal adqu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040"/>
            <a:ext cx="9175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anterior grafica la significación interna al signo, pero Sau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e que la SIGNIFICACIÓN muchas veces se confund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basta decir que tal o cual signo tiene tal o cual SIGN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necesario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ompararlo con los otros signos de la 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o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e decir a Saussure que en la Lengua sólo ha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que permiten establecer rel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RELACIONES SE DESPLIEGAN EN 2 ÓRDEN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N A 2 FORMAS DE LA ACTIVIDAD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95680"/>
            <a:ext cx="3352680" cy="2210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1240" y="4670280"/>
            <a:ext cx="458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L : Excluye pronunciar 2 palabras a la vez. Esta combinación que se organiza en la extensión se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Un término adqui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rque se opone al que le precede y al que le sig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o hay relacion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OCIATIVA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 palabras se asocian en la memoria formando grupos diversos. Son lo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DIG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soro interior de la lengu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4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8600"/>
            <a:ext cx="853452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INTAGM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DI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también como ej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 prae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o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os con respecto a otro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egu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in ab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por la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sociaciones  y evo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urgen a partir de ellos). Una columna dórica nos hace pensar en una jónica o en una de orden corin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7692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257000" y="3656880"/>
            <a:ext cx="13320" cy="2391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263800">
            <a:off x="3512880" y="48769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"/>
            <a:ext cx="838224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conceptos fundamentales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uss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 y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signos es diferente de la significación (tal vez más importante, pues surge de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ciones que se establec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los elementos dentro del sistema, de sus oposiciones y asociaciones, constituye sus artic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miología estudia la vida de los signos en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La distinción ent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LENG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Sistema colectivo de sig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t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880" y="601992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4572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NCRON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ACRON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como ejes (vertical y horizonta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considera la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multane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c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         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 e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námico o evolu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estudia la lengua de manera fija, e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ado es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in considerar su evolución social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no hace abstracción del tiempo, sino que estudia los fenómenos lingüísticos en su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oces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6668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3828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143000"/>
            <a:ext cx="754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(le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(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ORITMO SEMI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50:09Z</dcterms:created>
  <dc:creator>Unidad Multimedia</dc:creator>
  <dc:description/>
  <dc:language>en-US</dc:language>
  <cp:lastModifiedBy>Unidad Multimedia</cp:lastModifiedBy>
  <dcterms:modified xsi:type="dcterms:W3CDTF">1970-01-09T08:34:06Z</dcterms:modified>
  <cp:revision>25</cp:revision>
  <dc:subject/>
  <dc:title>De  SAUSSURE</dc:title>
</cp:coreProperties>
</file>