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0EA-EE7D-477E-8E04-589D9829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656-68EB-4D50-875E-D9E90C40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6C3-6A4B-46BD-99E5-5AB51AC1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8A4-6DA2-4D88-8053-43E40885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2F9-B630-4C03-A3C1-5C7C9DA6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CF7-8999-4C6E-A96C-F342945F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272-585C-49D0-9C1F-98172E2F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E0C-5B1B-4A58-87BC-6715D5E3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458-0EB2-4498-97B9-E531D07B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16D-A7B3-41E0-9F04-F37525F0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66D-329D-4E89-B57E-C1C9AB3E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0AA-143D-4075-A0E7-5EC1A763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352B-BDB1-4A35-9540-66EC23F61E5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800" y="3962160"/>
            <a:ext cx="4648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DINAND de  SAUSS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57-19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27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80880"/>
            <a:ext cx="8001000" cy="61722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rdinand de Saussure estableció que el signo era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neda de dos car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un lado 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por el otro la percepción acústica 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3505320"/>
            <a:ext cx="4038840" cy="23619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ción acú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4647960"/>
            <a:ext cx="3505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6996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762120"/>
            <a:ext cx="4648320" cy="266688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CION ACÚ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057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1440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080" y="4251240"/>
            <a:ext cx="488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ercepción acústica no es el so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sino su HUELLA PSÍQU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lo tanto, el signo es una 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íquica de dos caras u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57200"/>
            <a:ext cx="2590920" cy="167652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19320"/>
            <a:ext cx="2590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7200" y="609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685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IGNIFICANTE (STE)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ITRA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relación co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905120"/>
            <a:ext cx="221004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394668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ini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signo es impuesto 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dad que lo empl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 lo cerrado del si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ón indisol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o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ran 2 caras de un mismo p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1050840"/>
            <a:ext cx="45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dos flechas aluden 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licación recípro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tre amb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2952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2080" y="2117880"/>
            <a:ext cx="36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ínea horizontal adqui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ín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65040"/>
            <a:ext cx="917568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 anterior grafica la significación interna al signo, pero Sau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e que la SIGNIFICACIÓN muchas veces se confunde 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basta decir que tal o cual signo tiene tal o cual SIGN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necesario 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compararlo con los otros signos de la len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Esto 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ce decir a Saussure que en la Lengua sólo ha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que permiten establecer rela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RELACIONES SE DESPLIEGAN EN 2 ÓRDENE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SPONDEN A 2 FORMAS DE LA ACTIVIDAD 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495680"/>
            <a:ext cx="3352680" cy="22100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t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51240" y="4670280"/>
            <a:ext cx="458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EAL : Excluye pronunciar 2 palabras a la vez. Esta combinación que se organiza en la extensión se ll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NTAG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Un término adquie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orque se opone al que le precede y al que le sig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o hay relacione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OCIATIVAS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as palabras se asocian en la memoria formando grupos diversos. Son lo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DIGM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tesoro interior de la lengu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334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75248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228600"/>
            <a:ext cx="8534520" cy="53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INTAGMÁ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ARADIG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dos también como ej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rime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os signos se relacionan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n praesent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opos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unos con respecto a otro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egun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os signos se relacionan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in absent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por las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asociaciones  y evocacion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surgen a partir de ellos). Una columna dórica nos hace pensar en una jónica o en una de orden corin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Sint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876920"/>
            <a:ext cx="4343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257000" y="3656880"/>
            <a:ext cx="13320" cy="2391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263800">
            <a:off x="3512880" y="487692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8600"/>
            <a:ext cx="8382240" cy="66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conceptos fundamentales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aussu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STEMA y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os signos es diferente de la significación (tal vez más importante, pues surge de la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laciones que se establec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tre los elementos dentro del sistema, de sus oposiciones y asociaciones, constituye sus articu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emiología estudia la vida de los signos en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La distinción entr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LENGU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Sistema colectivo de sig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t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09880" y="601992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629400" y="4572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228600"/>
            <a:ext cx="838224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INCRONÍ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IACRON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dos como ejes (vertical y horizontal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considera la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imultane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l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uces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           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 es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stá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inámico o evolutiv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estudia la lengua de manera fija, en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stado establ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sin considerar su evolución social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no hace abstracción del tiempo, sino que estudia los fenómenos lingüísticos en su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roceso hist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66688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934320" y="243828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1143000"/>
            <a:ext cx="7543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DO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S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(leng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S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DO (mun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2895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1219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GORITMO SEMIÓ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8:50:09Z</dcterms:created>
  <dc:creator>Unidad Multimedia</dc:creator>
  <dc:description/>
  <dc:language>en-US</dc:language>
  <cp:lastModifiedBy>Unidad Multimedia</cp:lastModifiedBy>
  <dcterms:modified xsi:type="dcterms:W3CDTF">1970-01-09T08:34:06Z</dcterms:modified>
  <cp:revision>25</cp:revision>
  <dc:subject/>
  <dc:title>De  SAUSSURE</dc:title>
</cp:coreProperties>
</file>