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91EE3-8365-4C1A-A32D-A36BB3C72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02301-EE80-4310-9637-4F22CFA9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4073D-5E88-4D18-B199-ECB836E60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AF512-F077-4E15-A73E-819374E36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54ACB-A0DB-4C56-966F-E58A0450E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43854-C8F2-4B39-BEDB-75F4AA8DA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4395C-A289-410A-86CE-9C854FF13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407A6-3ABA-43EE-8E26-EB7FACFD4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22364-C063-494A-B079-EFFB68069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EDA1C-07BC-42DE-B56C-F2CEEF30C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8ACB9-1FC3-43A6-96F9-64320A684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7F94D-2AEC-4E04-AB44-E5D9B6303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83C0-F9FC-4C9C-86F3-731B31D065C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304920"/>
            <a:ext cx="7696080" cy="639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CONSC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O</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0000"/>
                </a:solidFill>
                <a:latin typeface="Times New Roman"/>
              </a:rPr>
              <a:t>SER</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ff0000"/>
                </a:solidFill>
                <a:latin typeface="Times New Roman"/>
              </a:rPr>
              <a:t>SUPERYO</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INCONSC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LLO</a:t>
            </a:r>
            <a:endParaRPr b="0" lang="en-US" sz="3200" spc="-1" strike="noStrike">
              <a:solidFill>
                <a:srgbClr val="000000"/>
              </a:solidFill>
              <a:latin typeface="Times New Roman"/>
            </a:endParaRPr>
          </a:p>
        </p:txBody>
      </p:sp>
      <p:sp>
        <p:nvSpPr>
          <p:cNvPr id="42" name=""/>
          <p:cNvSpPr/>
          <p:nvPr/>
        </p:nvSpPr>
        <p:spPr>
          <a:xfrm>
            <a:off x="3048120" y="1752480"/>
            <a:ext cx="2286000" cy="2133720"/>
          </a:xfrm>
          <a:prstGeom prst="ellipse">
            <a:avLst/>
          </a:prstGeom>
          <a:solidFill>
            <a:srgbClr val="99cc00">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flipV="1">
            <a:off x="4114800" y="838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191120" y="38862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16137600">
            <a:off x="1563120" y="268884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0"/>
            <a:ext cx="8610480" cy="661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CIEN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u="sng">
                <a:solidFill>
                  <a:srgbClr val="000000"/>
                </a:solidFill>
                <a:uFillTx/>
                <a:latin typeface="Times New Roman"/>
              </a:rPr>
              <a:t>MUNDO EXTERIOR - REGLAS - CENSURA SOCIA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333399"/>
                </a:solidFill>
                <a:latin typeface="Times New Roman"/>
              </a:rPr>
              <a:t>SUPERY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333399"/>
                </a:solidFill>
                <a:latin typeface="Times New Roman"/>
              </a:rPr>
              <a:t>YO</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ODIFICADO PO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NSCIEN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333399"/>
                </a:solidFill>
                <a:latin typeface="Times New Roman"/>
              </a:rPr>
              <a:t>ELLO</a:t>
            </a:r>
            <a:r>
              <a:rPr b="0" lang="en-US" sz="1800" spc="-1" strike="noStrike">
                <a:solidFill>
                  <a:srgbClr val="000000"/>
                </a:solidFill>
                <a:latin typeface="Times New Roman"/>
              </a:rPr>
              <a:t>	</a:t>
            </a:r>
            <a:r>
              <a:rPr b="0" lang="en-US" sz="1800" spc="-1" strike="noStrike">
                <a:solidFill>
                  <a:srgbClr val="000000"/>
                </a:solidFill>
                <a:latin typeface="Times New Roman"/>
              </a:rPr>
              <a:t>RESERVORIO, CONTIE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ÁBITOS, RECUERDOS,</a:t>
            </a:r>
            <a:r>
              <a:rPr b="0" lang="en-US" sz="1800" spc="-1" strike="noStrike">
                <a:solidFill>
                  <a:srgbClr val="ff0000"/>
                </a:solidFill>
                <a:latin typeface="Times New Roman"/>
              </a:rPr>
              <a:t> </a:t>
            </a:r>
            <a:r>
              <a:rPr b="1" lang="en-US" sz="1800" spc="-1" strike="noStrike" u="sng">
                <a:solidFill>
                  <a:srgbClr val="ff0000"/>
                </a:solidFill>
                <a:uFillTx/>
                <a:latin typeface="Times New Roman"/>
              </a:rPr>
              <a:t>PUL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UERZA ENERGÉTICA Y MOTRIZ QUE DIRIGE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EL ORGANISMO HACIA UN OBJETIVO</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UENTE : </a:t>
            </a:r>
            <a:r>
              <a:rPr b="0" lang="en-US" sz="1200" spc="-1" strike="noStrike">
                <a:solidFill>
                  <a:srgbClr val="000000"/>
                </a:solidFill>
                <a:latin typeface="Times New Roman"/>
              </a:rPr>
              <a:t>ESTADO DE EXCITACIÓN, DE TENSIÓN SOMÁTIC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INTERIOR DEL CUERPO</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800" spc="-1" strike="noStrike">
                <a:solidFill>
                  <a:srgbClr val="ff0000"/>
                </a:solidFill>
                <a:latin typeface="Times New Roman"/>
              </a:rPr>
              <a:t>PROCESO PULSIONAL</a:t>
            </a:r>
            <a:r>
              <a:rPr b="0" lang="en-US" sz="18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800" spc="-1" strike="noStrike">
                <a:solidFill>
                  <a:srgbClr val="000000"/>
                </a:solidFill>
                <a:latin typeface="Times New Roman"/>
              </a:rPr>
              <a:t>OBJETIVO: </a:t>
            </a:r>
            <a:r>
              <a:rPr b="0" lang="en-US" sz="1200" spc="-1" strike="noStrike">
                <a:solidFill>
                  <a:srgbClr val="000000"/>
                </a:solidFill>
                <a:latin typeface="Times New Roman"/>
              </a:rPr>
              <a:t>SATISFACCIÓN DE ESTA FUERZA: SUPRESIÓ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L ESTADO INICIAL DE TENSIÓN SOMÁT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800" spc="-1" strike="noStrike">
                <a:solidFill>
                  <a:srgbClr val="000000"/>
                </a:solidFill>
                <a:latin typeface="Times New Roman"/>
              </a:rPr>
              <a:t>OBJETOS: </a:t>
            </a:r>
            <a:r>
              <a:rPr b="0" lang="en-US" sz="1200" spc="-1" strike="noStrike">
                <a:solidFill>
                  <a:srgbClr val="000000"/>
                </a:solidFill>
                <a:latin typeface="Times New Roman"/>
              </a:rPr>
              <a:t> MEDIOS MUY VARIABLES (SEGÚN LOS SUJETO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TILIZADOS PARA OBTENER SATISFACCIÓ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7" name=""/>
          <p:cNvSpPr/>
          <p:nvPr/>
        </p:nvSpPr>
        <p:spPr>
          <a:xfrm rot="16137000">
            <a:off x="-376200" y="12902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RATOS EN RELACIÓN</a:t>
            </a:r>
            <a:endParaRPr b="0" lang="en-US" sz="1200" spc="-1" strike="noStrike">
              <a:solidFill>
                <a:srgbClr val="000000"/>
              </a:solidFill>
              <a:latin typeface="Times New Roman"/>
            </a:endParaRPr>
          </a:p>
        </p:txBody>
      </p:sp>
      <p:sp>
        <p:nvSpPr>
          <p:cNvPr id="48" name=""/>
          <p:cNvSpPr/>
          <p:nvPr/>
        </p:nvSpPr>
        <p:spPr>
          <a:xfrm>
            <a:off x="1905120" y="18288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1893600">
            <a:off x="1751400" y="228564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LSIONES</a:t>
            </a:r>
            <a:endParaRPr b="0" lang="en-US" sz="1400" spc="-1" strike="noStrike">
              <a:solidFill>
                <a:srgbClr val="000000"/>
              </a:solidFill>
              <a:latin typeface="Times New Roman"/>
            </a:endParaRPr>
          </a:p>
        </p:txBody>
      </p:sp>
      <p:sp>
        <p:nvSpPr>
          <p:cNvPr id="50" name=""/>
          <p:cNvSpPr/>
          <p:nvPr/>
        </p:nvSpPr>
        <p:spPr>
          <a:xfrm flipH="1" flipV="1">
            <a:off x="1752120" y="2286000"/>
            <a:ext cx="838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495680" y="304920"/>
            <a:ext cx="304920" cy="3045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495680" y="1295280"/>
            <a:ext cx="304920" cy="381240"/>
          </a:xfrm>
          <a:prstGeom prst="up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229600" y="3505320"/>
            <a:ext cx="609480" cy="533160"/>
          </a:xfrm>
          <a:custGeom>
            <a:avLst/>
            <a:gdLst>
              <a:gd name="textAreaLeft" fmla="*/ 81360 w 609480"/>
              <a:gd name="textAreaRight" fmla="*/ 528120 w 609480"/>
              <a:gd name="textAreaTop" fmla="*/ 93240 h 533160"/>
              <a:gd name="textAreaBottom" fmla="*/ 386640 h 53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200400" y="4495680"/>
            <a:ext cx="304920" cy="1981440"/>
          </a:xfrm>
          <a:custGeom>
            <a:avLst/>
            <a:gdLst>
              <a:gd name="textAreaLeft" fmla="*/ 0 w 304920"/>
              <a:gd name="textAreaRight" fmla="*/ 110160 w 3049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90720" y="838080"/>
            <a:ext cx="7772400" cy="3717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 (CONSCIENT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400" spc="-1" strike="noStrike">
                <a:solidFill>
                  <a:srgbClr val="000000"/>
                </a:solidFill>
                <a:latin typeface="Times New Roman"/>
              </a:rPr>
              <a:t>CENSURA SOCIAL</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Y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O</a:t>
            </a:r>
            <a:endParaRPr b="0" lang="en-US" sz="2400" spc="-1" strike="noStrike">
              <a:solidFill>
                <a:srgbClr val="000000"/>
              </a:solidFill>
              <a:latin typeface="Times New Roman"/>
            </a:endParaRPr>
          </a:p>
        </p:txBody>
      </p:sp>
      <p:sp>
        <p:nvSpPr>
          <p:cNvPr id="56" name=""/>
          <p:cNvSpPr/>
          <p:nvPr/>
        </p:nvSpPr>
        <p:spPr>
          <a:xfrm>
            <a:off x="1143000" y="182880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66680" y="365760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2120" y="838080"/>
            <a:ext cx="0" cy="426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120" y="510552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3520" y="5486400"/>
            <a:ext cx="8305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RESIÓN DIRECTA DE LA PULSIÓN</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61" name=""/>
          <p:cNvSpPr/>
          <p:nvPr/>
        </p:nvSpPr>
        <p:spPr>
          <a:xfrm flipV="1">
            <a:off x="4648320" y="914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548640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245200" y="1844640"/>
            <a:ext cx="295200" cy="1825560"/>
          </a:xfrm>
          <a:custGeom>
            <a:avLst/>
            <a:gdLst/>
            <a:ahLst/>
            <a:rect l="l" t="t" r="r" b="b"/>
            <a:pathLst>
              <a:path w="186" h="1150">
                <a:moveTo>
                  <a:pt x="146" y="1150"/>
                </a:moveTo>
                <a:cubicBezTo>
                  <a:pt x="104" y="1089"/>
                  <a:pt x="110" y="1065"/>
                  <a:pt x="171" y="1025"/>
                </a:cubicBezTo>
                <a:cubicBezTo>
                  <a:pt x="142" y="937"/>
                  <a:pt x="186" y="1036"/>
                  <a:pt x="109" y="975"/>
                </a:cubicBezTo>
                <a:cubicBezTo>
                  <a:pt x="98" y="966"/>
                  <a:pt x="100" y="950"/>
                  <a:pt x="96" y="938"/>
                </a:cubicBezTo>
                <a:cubicBezTo>
                  <a:pt x="108" y="933"/>
                  <a:pt x="124" y="934"/>
                  <a:pt x="134" y="925"/>
                </a:cubicBezTo>
                <a:cubicBezTo>
                  <a:pt x="150" y="908"/>
                  <a:pt x="149" y="865"/>
                  <a:pt x="134" y="850"/>
                </a:cubicBezTo>
                <a:cubicBezTo>
                  <a:pt x="124" y="840"/>
                  <a:pt x="108" y="842"/>
                  <a:pt x="96" y="838"/>
                </a:cubicBezTo>
                <a:cubicBezTo>
                  <a:pt x="100" y="817"/>
                  <a:pt x="97" y="792"/>
                  <a:pt x="109" y="775"/>
                </a:cubicBezTo>
                <a:cubicBezTo>
                  <a:pt x="116" y="764"/>
                  <a:pt x="136" y="772"/>
                  <a:pt x="146" y="763"/>
                </a:cubicBezTo>
                <a:cubicBezTo>
                  <a:pt x="155" y="753"/>
                  <a:pt x="154" y="737"/>
                  <a:pt x="159" y="725"/>
                </a:cubicBezTo>
                <a:cubicBezTo>
                  <a:pt x="104" y="707"/>
                  <a:pt x="90" y="719"/>
                  <a:pt x="71" y="663"/>
                </a:cubicBezTo>
                <a:cubicBezTo>
                  <a:pt x="83" y="658"/>
                  <a:pt x="98" y="658"/>
                  <a:pt x="109" y="650"/>
                </a:cubicBezTo>
                <a:cubicBezTo>
                  <a:pt x="170" y="601"/>
                  <a:pt x="95" y="587"/>
                  <a:pt x="59" y="575"/>
                </a:cubicBezTo>
                <a:cubicBezTo>
                  <a:pt x="63" y="558"/>
                  <a:pt x="60" y="538"/>
                  <a:pt x="71" y="525"/>
                </a:cubicBezTo>
                <a:cubicBezTo>
                  <a:pt x="79" y="514"/>
                  <a:pt x="98" y="521"/>
                  <a:pt x="109" y="513"/>
                </a:cubicBezTo>
                <a:cubicBezTo>
                  <a:pt x="120" y="503"/>
                  <a:pt x="125" y="487"/>
                  <a:pt x="134" y="475"/>
                </a:cubicBezTo>
                <a:cubicBezTo>
                  <a:pt x="116" y="466"/>
                  <a:pt x="0" y="439"/>
                  <a:pt x="59" y="400"/>
                </a:cubicBezTo>
                <a:cubicBezTo>
                  <a:pt x="76" y="388"/>
                  <a:pt x="100" y="392"/>
                  <a:pt x="121" y="388"/>
                </a:cubicBezTo>
                <a:cubicBezTo>
                  <a:pt x="125" y="375"/>
                  <a:pt x="138" y="362"/>
                  <a:pt x="134" y="350"/>
                </a:cubicBezTo>
                <a:cubicBezTo>
                  <a:pt x="126" y="331"/>
                  <a:pt x="75" y="318"/>
                  <a:pt x="59" y="313"/>
                </a:cubicBezTo>
                <a:cubicBezTo>
                  <a:pt x="63" y="296"/>
                  <a:pt x="60" y="276"/>
                  <a:pt x="71" y="263"/>
                </a:cubicBezTo>
                <a:cubicBezTo>
                  <a:pt x="79" y="252"/>
                  <a:pt x="98" y="258"/>
                  <a:pt x="109" y="250"/>
                </a:cubicBezTo>
                <a:cubicBezTo>
                  <a:pt x="120" y="240"/>
                  <a:pt x="125" y="225"/>
                  <a:pt x="134" y="213"/>
                </a:cubicBezTo>
                <a:cubicBezTo>
                  <a:pt x="121" y="208"/>
                  <a:pt x="108" y="203"/>
                  <a:pt x="96" y="200"/>
                </a:cubicBezTo>
                <a:cubicBezTo>
                  <a:pt x="75" y="194"/>
                  <a:pt x="48" y="202"/>
                  <a:pt x="34" y="188"/>
                </a:cubicBezTo>
                <a:cubicBezTo>
                  <a:pt x="24" y="178"/>
                  <a:pt x="36" y="159"/>
                  <a:pt x="46" y="150"/>
                </a:cubicBezTo>
                <a:cubicBezTo>
                  <a:pt x="64" y="131"/>
                  <a:pt x="96" y="133"/>
                  <a:pt x="121" y="125"/>
                </a:cubicBezTo>
                <a:cubicBezTo>
                  <a:pt x="117" y="104"/>
                  <a:pt x="120" y="80"/>
                  <a:pt x="109" y="63"/>
                </a:cubicBezTo>
                <a:cubicBezTo>
                  <a:pt x="70" y="0"/>
                  <a:pt x="25" y="47"/>
                  <a:pt x="96" y="0"/>
                </a:cubicBezTo>
                <a:cubicBezTo>
                  <a:pt x="108" y="4"/>
                  <a:pt x="134" y="13"/>
                  <a:pt x="134" y="1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410080" y="914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632448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31520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973840" y="1905120"/>
            <a:ext cx="1508040" cy="1746000"/>
          </a:xfrm>
          <a:custGeom>
            <a:avLst/>
            <a:gdLst/>
            <a:ahLst/>
            <a:rect l="l" t="t" r="r" b="b"/>
            <a:pathLst>
              <a:path w="950" h="1100">
                <a:moveTo>
                  <a:pt x="237" y="1100"/>
                </a:moveTo>
                <a:cubicBezTo>
                  <a:pt x="224" y="1095"/>
                  <a:pt x="205" y="1098"/>
                  <a:pt x="200" y="1087"/>
                </a:cubicBezTo>
                <a:cubicBezTo>
                  <a:pt x="181" y="1049"/>
                  <a:pt x="235" y="1041"/>
                  <a:pt x="250" y="1037"/>
                </a:cubicBezTo>
                <a:cubicBezTo>
                  <a:pt x="147" y="1020"/>
                  <a:pt x="152" y="1029"/>
                  <a:pt x="250" y="1012"/>
                </a:cubicBezTo>
                <a:cubicBezTo>
                  <a:pt x="442" y="976"/>
                  <a:pt x="164" y="1025"/>
                  <a:pt x="387" y="987"/>
                </a:cubicBezTo>
                <a:cubicBezTo>
                  <a:pt x="319" y="970"/>
                  <a:pt x="273" y="942"/>
                  <a:pt x="212" y="912"/>
                </a:cubicBezTo>
                <a:cubicBezTo>
                  <a:pt x="224" y="903"/>
                  <a:pt x="250" y="902"/>
                  <a:pt x="250" y="887"/>
                </a:cubicBezTo>
                <a:cubicBezTo>
                  <a:pt x="250" y="869"/>
                  <a:pt x="202" y="865"/>
                  <a:pt x="212" y="850"/>
                </a:cubicBezTo>
                <a:cubicBezTo>
                  <a:pt x="225" y="827"/>
                  <a:pt x="262" y="833"/>
                  <a:pt x="287" y="825"/>
                </a:cubicBezTo>
                <a:cubicBezTo>
                  <a:pt x="278" y="812"/>
                  <a:pt x="276" y="792"/>
                  <a:pt x="262" y="787"/>
                </a:cubicBezTo>
                <a:cubicBezTo>
                  <a:pt x="214" y="769"/>
                  <a:pt x="160" y="777"/>
                  <a:pt x="112" y="762"/>
                </a:cubicBezTo>
                <a:cubicBezTo>
                  <a:pt x="74" y="749"/>
                  <a:pt x="37" y="737"/>
                  <a:pt x="0" y="725"/>
                </a:cubicBezTo>
                <a:cubicBezTo>
                  <a:pt x="75" y="720"/>
                  <a:pt x="150" y="719"/>
                  <a:pt x="225" y="712"/>
                </a:cubicBezTo>
                <a:cubicBezTo>
                  <a:pt x="237" y="710"/>
                  <a:pt x="262" y="712"/>
                  <a:pt x="262" y="700"/>
                </a:cubicBezTo>
                <a:cubicBezTo>
                  <a:pt x="262" y="686"/>
                  <a:pt x="237" y="691"/>
                  <a:pt x="225" y="687"/>
                </a:cubicBezTo>
                <a:cubicBezTo>
                  <a:pt x="233" y="674"/>
                  <a:pt x="247" y="664"/>
                  <a:pt x="250" y="650"/>
                </a:cubicBezTo>
                <a:cubicBezTo>
                  <a:pt x="259" y="590"/>
                  <a:pt x="197" y="624"/>
                  <a:pt x="275" y="600"/>
                </a:cubicBezTo>
                <a:cubicBezTo>
                  <a:pt x="250" y="587"/>
                  <a:pt x="215" y="585"/>
                  <a:pt x="200" y="562"/>
                </a:cubicBezTo>
                <a:cubicBezTo>
                  <a:pt x="191" y="549"/>
                  <a:pt x="229" y="539"/>
                  <a:pt x="225" y="525"/>
                </a:cubicBezTo>
                <a:cubicBezTo>
                  <a:pt x="218" y="505"/>
                  <a:pt x="191" y="499"/>
                  <a:pt x="175" y="487"/>
                </a:cubicBezTo>
                <a:cubicBezTo>
                  <a:pt x="187" y="478"/>
                  <a:pt x="202" y="473"/>
                  <a:pt x="212" y="462"/>
                </a:cubicBezTo>
                <a:cubicBezTo>
                  <a:pt x="220" y="451"/>
                  <a:pt x="215" y="434"/>
                  <a:pt x="225" y="425"/>
                </a:cubicBezTo>
                <a:cubicBezTo>
                  <a:pt x="256" y="393"/>
                  <a:pt x="320" y="388"/>
                  <a:pt x="362" y="375"/>
                </a:cubicBezTo>
                <a:cubicBezTo>
                  <a:pt x="370" y="350"/>
                  <a:pt x="382" y="325"/>
                  <a:pt x="387" y="300"/>
                </a:cubicBezTo>
                <a:cubicBezTo>
                  <a:pt x="391" y="275"/>
                  <a:pt x="385" y="245"/>
                  <a:pt x="400" y="225"/>
                </a:cubicBezTo>
                <a:cubicBezTo>
                  <a:pt x="410" y="210"/>
                  <a:pt x="433" y="217"/>
                  <a:pt x="450" y="212"/>
                </a:cubicBezTo>
                <a:cubicBezTo>
                  <a:pt x="475" y="204"/>
                  <a:pt x="525" y="187"/>
                  <a:pt x="525" y="187"/>
                </a:cubicBezTo>
                <a:cubicBezTo>
                  <a:pt x="529" y="174"/>
                  <a:pt x="526" y="158"/>
                  <a:pt x="537" y="150"/>
                </a:cubicBezTo>
                <a:cubicBezTo>
                  <a:pt x="570" y="123"/>
                  <a:pt x="620" y="131"/>
                  <a:pt x="662" y="125"/>
                </a:cubicBezTo>
                <a:cubicBezTo>
                  <a:pt x="696" y="38"/>
                  <a:pt x="717" y="26"/>
                  <a:pt x="800" y="0"/>
                </a:cubicBezTo>
                <a:cubicBezTo>
                  <a:pt x="829" y="87"/>
                  <a:pt x="833" y="50"/>
                  <a:pt x="812" y="112"/>
                </a:cubicBezTo>
                <a:cubicBezTo>
                  <a:pt x="829" y="120"/>
                  <a:pt x="858" y="118"/>
                  <a:pt x="863" y="137"/>
                </a:cubicBezTo>
                <a:cubicBezTo>
                  <a:pt x="869" y="162"/>
                  <a:pt x="837" y="212"/>
                  <a:pt x="837" y="212"/>
                </a:cubicBezTo>
                <a:cubicBezTo>
                  <a:pt x="841" y="245"/>
                  <a:pt x="852" y="278"/>
                  <a:pt x="850" y="312"/>
                </a:cubicBezTo>
                <a:cubicBezTo>
                  <a:pt x="848" y="330"/>
                  <a:pt x="830" y="344"/>
                  <a:pt x="825" y="362"/>
                </a:cubicBezTo>
                <a:cubicBezTo>
                  <a:pt x="817" y="386"/>
                  <a:pt x="816" y="412"/>
                  <a:pt x="812" y="437"/>
                </a:cubicBezTo>
                <a:cubicBezTo>
                  <a:pt x="820" y="458"/>
                  <a:pt x="822" y="482"/>
                  <a:pt x="837" y="500"/>
                </a:cubicBezTo>
                <a:cubicBezTo>
                  <a:pt x="845" y="510"/>
                  <a:pt x="868" y="500"/>
                  <a:pt x="875" y="512"/>
                </a:cubicBezTo>
                <a:cubicBezTo>
                  <a:pt x="888" y="538"/>
                  <a:pt x="824" y="612"/>
                  <a:pt x="812" y="625"/>
                </a:cubicBezTo>
                <a:cubicBezTo>
                  <a:pt x="841" y="710"/>
                  <a:pt x="866" y="709"/>
                  <a:pt x="950" y="737"/>
                </a:cubicBezTo>
                <a:cubicBezTo>
                  <a:pt x="937" y="741"/>
                  <a:pt x="922" y="740"/>
                  <a:pt x="913" y="750"/>
                </a:cubicBezTo>
                <a:cubicBezTo>
                  <a:pt x="887" y="775"/>
                  <a:pt x="850" y="832"/>
                  <a:pt x="850" y="87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457200"/>
            <a:ext cx="8229600" cy="6312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imes New Roman"/>
              </a:rPr>
              <a:t>PUL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ende de la historia del sujeto,</a:t>
            </a:r>
            <a:br>
              <a:rPr sz="1600"/>
            </a:br>
            <a:r>
              <a:rPr b="0" lang="en-US" sz="1600" spc="-1" strike="noStrike">
                <a:solidFill>
                  <a:srgbClr val="000000"/>
                </a:solidFill>
                <a:latin typeface="Times New Roman"/>
              </a:rPr>
              <a:t> de sus vivencias, es de notable</a:t>
            </a:r>
            <a:br>
              <a:rPr sz="1600"/>
            </a:br>
            <a:r>
              <a:rPr b="0" lang="en-US" sz="1600" spc="-1" strike="noStrike">
                <a:solidFill>
                  <a:srgbClr val="000000"/>
                </a:solidFill>
                <a:latin typeface="Times New Roman"/>
              </a:rPr>
              <a:t> plasticida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VIDA(EROS)</a:t>
            </a:r>
            <a:r>
              <a:rPr b="1" lang="en-US" sz="2400" spc="-1" strike="noStrike">
                <a:solidFill>
                  <a:srgbClr val="000000"/>
                </a:solidFill>
                <a:latin typeface="Times New Roman"/>
              </a:rPr>
              <a:t>	</a:t>
            </a:r>
            <a:r>
              <a:rPr b="1" lang="en-US" sz="2400" spc="-1" strike="noStrike">
                <a:solidFill>
                  <a:srgbClr val="000000"/>
                </a:solidFill>
                <a:latin typeface="Times New Roman"/>
              </a:rPr>
              <a:t>                   DE MUERTE (THANATOS)</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xuales (Libido, en sentido amplio que engloba</a:t>
            </a:r>
            <a:r>
              <a:rPr b="0" lang="en-US" sz="1400" spc="-1" strike="noStrike">
                <a:solidFill>
                  <a:srgbClr val="000000"/>
                </a:solidFill>
                <a:latin typeface="Times New Roman"/>
              </a:rPr>
              <a:t>	</a:t>
            </a:r>
            <a:r>
              <a:rPr b="0" lang="en-US" sz="1400" spc="-1" strike="noStrike">
                <a:solidFill>
                  <a:srgbClr val="000000"/>
                </a:solidFill>
                <a:latin typeface="Times New Roman"/>
              </a:rPr>
              <a:t>              Agresivas respecto del sujeto y/o respecto de otro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 amor hacia los padres, los objetos, las idea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lsiones de autoconservació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2400" spc="-1" strike="noStrike" u="sng">
                <a:solidFill>
                  <a:srgbClr val="000000"/>
                </a:solidFill>
                <a:uFillTx/>
                <a:latin typeface="Times New Roman"/>
              </a:rPr>
              <a:t>SUBLIM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TRAVÉS DEL SUPERYO, LA SOCIEDAD CONDUCE AL SUJETO A ORIENTAR SUS PULSIONES HACIA OBJETOS Y OBJETIVOS MÁS CONFORMES CON LAS NORMAS SOCIALES, MORALES, O RELIGIOSAS. LEONARDO HABRÍA SUBLIMADO UNA HOMOSEXUALIDAD LATENTE MEDIANTE LA INVESTIGACIÓN CIENTÍFICA Y LA CREACIÓN ARTÍSTICA (FREU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 name=""/>
          <p:cNvSpPr/>
          <p:nvPr/>
        </p:nvSpPr>
        <p:spPr>
          <a:xfrm flipH="1">
            <a:off x="1676160" y="1066680"/>
            <a:ext cx="251460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91120" y="1066680"/>
            <a:ext cx="243828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343400" y="4724280"/>
            <a:ext cx="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1980720" y="6858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81080" y="685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52280" y="152280"/>
            <a:ext cx="2260800" cy="3454560"/>
          </a:xfrm>
          <a:prstGeom prst="rect">
            <a:avLst/>
          </a:prstGeom>
          <a:ln w="0">
            <a:noFill/>
          </a:ln>
        </p:spPr>
      </p:pic>
      <p:pic>
        <p:nvPicPr>
          <p:cNvPr id="75" name="" descr=""/>
          <p:cNvPicPr/>
          <p:nvPr/>
        </p:nvPicPr>
        <p:blipFill>
          <a:blip r:embed="rId2"/>
          <a:stretch/>
        </p:blipFill>
        <p:spPr>
          <a:xfrm>
            <a:off x="2514600" y="990720"/>
            <a:ext cx="3174840" cy="4000320"/>
          </a:xfrm>
          <a:prstGeom prst="rect">
            <a:avLst/>
          </a:prstGeom>
          <a:ln w="0">
            <a:noFill/>
          </a:ln>
        </p:spPr>
      </p:pic>
      <p:pic>
        <p:nvPicPr>
          <p:cNvPr id="76" name="" descr=""/>
          <p:cNvPicPr/>
          <p:nvPr/>
        </p:nvPicPr>
        <p:blipFill>
          <a:blip r:embed="rId3"/>
          <a:stretch/>
        </p:blipFill>
        <p:spPr>
          <a:xfrm>
            <a:off x="5715000" y="228600"/>
            <a:ext cx="3174840" cy="3009960"/>
          </a:xfrm>
          <a:prstGeom prst="rect">
            <a:avLst/>
          </a:prstGeom>
          <a:ln w="0">
            <a:noFill/>
          </a:ln>
        </p:spPr>
      </p:pic>
      <p:sp>
        <p:nvSpPr>
          <p:cNvPr id="77" name=""/>
          <p:cNvSpPr/>
          <p:nvPr/>
        </p:nvSpPr>
        <p:spPr>
          <a:xfrm>
            <a:off x="457200" y="510552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las imágenes, las pulsiones de muerte se traslucen con frecuencia ligadas, a veces, a la libido. Imágenes de suplicios, saetados, crucificados. También están los espectadores que se deleitan con ellas; al igual como en tiempos pasados se iba a ver cómo se quemaba a una bruja. En el seudoarte se encuentran escatología y viol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305920" cy="62251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EÑO (FREUD)</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NTENTO DE REDUCIR  LAS TENSIONES ENTRE </a:t>
            </a:r>
            <a:br>
              <a:rPr sz="1600"/>
            </a:br>
            <a:r>
              <a:rPr b="0" lang="en-US" sz="1600" spc="-1" strike="noStrike">
                <a:solidFill>
                  <a:srgbClr val="000000"/>
                </a:solidFill>
                <a:latin typeface="Times New Roman"/>
              </a:rPr>
              <a:t>              EL </a:t>
            </a:r>
            <a:r>
              <a:rPr b="1" lang="en-US" sz="1600" spc="-1" strike="noStrike">
                <a:solidFill>
                  <a:srgbClr val="ff0000"/>
                </a:solidFill>
                <a:latin typeface="Times New Roman"/>
              </a:rPr>
              <a:t>ELL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Y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EL </a:t>
            </a:r>
            <a:r>
              <a:rPr b="1" lang="en-US" sz="1600" spc="-1" strike="noStrike">
                <a:solidFill>
                  <a:srgbClr val="ff0000"/>
                </a:solidFill>
                <a:latin typeface="Times New Roman"/>
              </a:rPr>
              <a:t>SUPERY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S UN COMPROMISO ENTRE ESTAS DOS INSTANCIAS PSÍQUICA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URANTE EL SUEÑO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 </a:t>
            </a:r>
            <a:r>
              <a:rPr b="1" lang="en-US" sz="1400" spc="-1" strike="noStrike">
                <a:solidFill>
                  <a:srgbClr val="ff0000"/>
                </a:solidFill>
                <a:latin typeface="Times New Roman"/>
              </a:rPr>
              <a:t>SUPERYO</a:t>
            </a:r>
            <a:r>
              <a:rPr b="0" lang="en-US" sz="1400" spc="-1" strike="noStrike">
                <a:solidFill>
                  <a:srgbClr val="000000"/>
                </a:solidFill>
                <a:latin typeface="Times New Roman"/>
              </a:rPr>
              <a:t> Y EL PRINCIPIO DE REALIDAD</a:t>
            </a:r>
            <a:r>
              <a:rPr b="0" lang="en-US" sz="1400" spc="-1" strike="noStrike">
                <a:solidFill>
                  <a:srgbClr val="000000"/>
                </a:solidFill>
                <a:latin typeface="Times New Roman"/>
              </a:rPr>
              <a:t>	</a:t>
            </a:r>
            <a:r>
              <a:rPr b="0" lang="en-US" sz="1400" spc="-1" strike="noStrike">
                <a:solidFill>
                  <a:srgbClr val="000000"/>
                </a:solidFill>
                <a:latin typeface="Times New Roman"/>
              </a:rPr>
              <a:t>EL</a:t>
            </a:r>
            <a:r>
              <a:rPr b="1" lang="en-US" sz="1400" spc="-1" strike="noStrike">
                <a:solidFill>
                  <a:srgbClr val="ff0000"/>
                </a:solidFill>
                <a:latin typeface="Times New Roman"/>
              </a:rPr>
              <a:t> ELLO</a:t>
            </a:r>
            <a:r>
              <a:rPr b="0" lang="en-US" sz="1400" spc="-1" strike="noStrike">
                <a:solidFill>
                  <a:srgbClr val="000000"/>
                </a:solidFill>
                <a:latin typeface="Times New Roman"/>
              </a:rPr>
              <a:t> Y EL PRINCIPIO DE PLACER  </a:t>
            </a:r>
            <a:br>
              <a:rPr sz="1400"/>
            </a:br>
            <a:r>
              <a:rPr b="0" lang="en-US" sz="1400" spc="-1" strike="noStrike">
                <a:solidFill>
                  <a:srgbClr val="000000"/>
                </a:solidFill>
                <a:latin typeface="Times New Roman"/>
              </a:rPr>
              <a:t>SE RELAJA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E REFUERZ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EXISTEN VARIAS SIGNIFICACIONES (SIMBOLISMO DEL SUEÑ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ONTENIDO MANIFIESTO</a:t>
            </a:r>
            <a:r>
              <a:rPr b="0" lang="en-US" sz="1400" spc="-1" strike="noStrike">
                <a:solidFill>
                  <a:srgbClr val="000000"/>
                </a:solidFill>
                <a:latin typeface="Times New Roman"/>
              </a:rPr>
              <a:t>      (CORRESPONDE A LA HISTORIA QUE EL SOÑANTE PAREC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ESCUCHAR, ASPECTO DENOTATIV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ONTENIDO LATENTE</a:t>
            </a:r>
            <a:r>
              <a:rPr b="0" lang="en-US" sz="1400" spc="-1" strike="noStrike">
                <a:solidFill>
                  <a:srgbClr val="000000"/>
                </a:solidFill>
                <a:latin typeface="Times New Roman"/>
              </a:rPr>
              <a:t>             (CORRESPONDE A LOS SENTIDOS SEGUNDOS, CONNOTATIV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000000"/>
                </a:solidFill>
                <a:latin typeface="Times New Roman"/>
              </a:rPr>
              <a:t>ACTVIDAD SIMBÓLICA: CUATRO ASPECT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DRAMATIZACIÓN</a:t>
            </a:r>
            <a:r>
              <a:rPr b="1" lang="en-US" sz="1400" spc="-1" strike="noStrike">
                <a:solidFill>
                  <a:srgbClr val="000000"/>
                </a:solidFill>
                <a:latin typeface="Times New Roman"/>
              </a:rPr>
              <a:t>	</a:t>
            </a:r>
            <a:r>
              <a:rPr b="1" lang="en-US" sz="1400" spc="-1" strike="noStrike">
                <a:solidFill>
                  <a:srgbClr val="000000"/>
                </a:solidFill>
                <a:latin typeface="Times New Roman"/>
              </a:rPr>
              <a:t>      2. CONDENSACIÓN        3. DESPLAZAMIENTO          4.SIMBOLIZACIÓ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457200" y="4419720"/>
            <a:ext cx="220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828440" y="914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0" y="914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828800" y="9144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a:off x="7467480" y="9144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flipH="1">
            <a:off x="2666520" y="2438280"/>
            <a:ext cx="1676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343400" y="2438280"/>
            <a:ext cx="1523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267080" y="5410080"/>
            <a:ext cx="304920" cy="30492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228600"/>
            <a:ext cx="8458200" cy="564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t>
            </a:r>
            <a:r>
              <a:rPr b="0" i="1" lang="en-US" sz="1800" spc="-1" strike="noStrike">
                <a:solidFill>
                  <a:srgbClr val="000000"/>
                </a:solidFill>
                <a:latin typeface="Times New Roman"/>
              </a:rPr>
              <a:t>El sueño es el cumplimiento (disfrazado) de un deseo (reprimido)."</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DRAMATIZACIÓN</a:t>
            </a:r>
            <a:r>
              <a:rPr b="0" lang="en-US" sz="2400" spc="-1" strike="noStrike">
                <a:solidFill>
                  <a:srgbClr val="000000"/>
                </a:solidFill>
                <a:latin typeface="Times New Roman"/>
              </a:rPr>
              <a:t>: </a:t>
            </a:r>
            <a:r>
              <a:rPr b="0" lang="en-US" sz="1600" spc="-1" strike="noStrike">
                <a:solidFill>
                  <a:srgbClr val="000000"/>
                </a:solidFill>
                <a:latin typeface="Times New Roman"/>
              </a:rPr>
              <a:t>EL SUEÑO ES PRIMERAMENTE UN ESPECTÁCULO. IDEAS ABSTRACTAS SE CONCRETIZA</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CONDENSACIÓN</a:t>
            </a:r>
            <a:r>
              <a:rPr b="0" lang="en-US" sz="2400" spc="-1" strike="noStrike">
                <a:solidFill>
                  <a:srgbClr val="000000"/>
                </a:solidFill>
                <a:latin typeface="Times New Roman"/>
              </a:rPr>
              <a:t>: </a:t>
            </a:r>
            <a:r>
              <a:rPr b="0" lang="en-US" sz="1600" spc="-1" strike="noStrike">
                <a:solidFill>
                  <a:srgbClr val="000000"/>
                </a:solidFill>
                <a:latin typeface="Times New Roman"/>
              </a:rPr>
              <a:t>UNA MISMA IMAGEN REMITE A X SIGNIFICACIONES. SOBREDETERMINACIÓN. Su trabajo es el de unificar, de sintetizar, de reunir en un solo cuadro varios deseos, varios recuerdos. En un contenido manifiesto se juntan varios contenidos latentes. Es un trabajo </a:t>
            </a:r>
            <a:r>
              <a:rPr b="1" lang="en-US" sz="1600" spc="-1" strike="noStrike">
                <a:solidFill>
                  <a:srgbClr val="ff0000"/>
                </a:solidFill>
                <a:latin typeface="Times New Roman"/>
              </a:rPr>
              <a:t>metafórico</a:t>
            </a:r>
            <a:r>
              <a:rPr b="0" lang="en-US" sz="1600" spc="-1" strike="noStrike">
                <a:solidFill>
                  <a:srgbClr val="000000"/>
                </a:solidFill>
                <a:latin typeface="Times New Roman"/>
              </a:rPr>
              <a:t> en el que cada significante remite a varios significados </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DESPLAZAMIENTO</a:t>
            </a:r>
            <a:r>
              <a:rPr b="0" lang="en-US" sz="2400" spc="-1" strike="noStrike">
                <a:solidFill>
                  <a:srgbClr val="000000"/>
                </a:solidFill>
                <a:latin typeface="Times New Roman"/>
              </a:rPr>
              <a:t>: </a:t>
            </a:r>
            <a:r>
              <a:rPr b="0" lang="en-US" sz="1600" spc="-1" strike="noStrike">
                <a:solidFill>
                  <a:srgbClr val="000000"/>
                </a:solidFill>
                <a:latin typeface="Times New Roman"/>
              </a:rPr>
              <a:t>EL SUPERYO PROHIBE AL ELLO DE MANIFESTAR SUS PULSIONES TAL CUAL. EXIGE UN DISFRAZ, REEMPLAZO DE UNA IMAGEN POR OTRA QUE LE ESTÁ UNIDA. El afecto que lleva la marca del deseo se desprende de su objetivo inicial y se desplaza hacia un objetivo de substitución. El objeto apuntado ya no es el mismo gracias al trabajo </a:t>
            </a:r>
            <a:r>
              <a:rPr b="1" lang="en-US" sz="1600" spc="-1" strike="noStrike">
                <a:solidFill>
                  <a:srgbClr val="ff0000"/>
                </a:solidFill>
                <a:latin typeface="Times New Roman"/>
              </a:rPr>
              <a:t>metonímico</a:t>
            </a:r>
            <a:r>
              <a:rPr b="0" lang="en-US" sz="1600" spc="-1" strike="noStrike">
                <a:solidFill>
                  <a:srgbClr val="ff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IMBOLIZACIÓN</a:t>
            </a:r>
            <a:r>
              <a:rPr b="0" lang="en-US" sz="2400" spc="-1" strike="noStrike">
                <a:solidFill>
                  <a:srgbClr val="000000"/>
                </a:solidFill>
                <a:latin typeface="Times New Roman"/>
              </a:rPr>
              <a:t>: </a:t>
            </a:r>
            <a:r>
              <a:rPr b="0" lang="en-US" sz="1600" spc="-1" strike="noStrike">
                <a:solidFill>
                  <a:srgbClr val="000000"/>
                </a:solidFill>
                <a:latin typeface="Times New Roman"/>
              </a:rPr>
              <a:t>EL SOÑANTE FINALMENTE USA SÍMBOLOS-TIPO COMUNES A SU COMUNIDAD (LEÓN=PADRE,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
          <p:cNvSpPr/>
          <p:nvPr/>
        </p:nvSpPr>
        <p:spPr>
          <a:xfrm>
            <a:off x="457200" y="533520"/>
            <a:ext cx="8305920" cy="546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La noción de </a:t>
            </a:r>
            <a:r>
              <a:rPr b="1" lang="es-ES_tradnl" sz="1300" spc="-1" strike="noStrike">
                <a:solidFill>
                  <a:srgbClr val="000000"/>
                </a:solidFill>
                <a:latin typeface="Arial"/>
              </a:rPr>
              <a:t>desplazamiento</a:t>
            </a:r>
            <a:r>
              <a:rPr b="0" lang="es-ES_tradnl" sz="1300" spc="-1" strike="noStrike">
                <a:solidFill>
                  <a:srgbClr val="000033"/>
                </a:solidFill>
                <a:latin typeface="Arial"/>
              </a:rPr>
              <a:t> es esencial para comprender la particularidad síquica del </a:t>
            </a:r>
            <a:r>
              <a:rPr b="1" lang="es-ES_tradnl" sz="1300" spc="-1" strike="noStrike">
                <a:solidFill>
                  <a:srgbClr val="000033"/>
                </a:solidFill>
                <a:latin typeface="Arial"/>
              </a:rPr>
              <a:t>SÍNTOM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Este no es el origen del sufrimiento ni está ligado con sus causas (como sí ocurre con los síntomas corporal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La noción apareció para considerar cierta disociación entre los factores llamados “cuantitativos”, los </a:t>
            </a:r>
            <a:r>
              <a:rPr b="1" lang="es-ES_tradnl" sz="1300" spc="-1" strike="noStrike">
                <a:solidFill>
                  <a:srgbClr val="000033"/>
                </a:solidFill>
                <a:latin typeface="Arial"/>
              </a:rPr>
              <a:t>afectos</a:t>
            </a:r>
            <a:r>
              <a:rPr b="0" lang="es-ES_tradnl" sz="1300" spc="-1" strike="noStrike">
                <a:solidFill>
                  <a:srgbClr val="000033"/>
                </a:solidFill>
                <a:latin typeface="Arial"/>
              </a:rPr>
              <a:t> y los factores llamados “cualitativos, las </a:t>
            </a:r>
            <a:r>
              <a:rPr b="1" lang="es-ES_tradnl" sz="1300" spc="-1" strike="noStrike">
                <a:solidFill>
                  <a:srgbClr val="000033"/>
                </a:solidFill>
                <a:latin typeface="Arial"/>
              </a:rPr>
              <a:t>representaciones psíquicas</a:t>
            </a:r>
            <a:r>
              <a:rPr b="0" lang="es-ES_tradnl" sz="1300" spc="-1" strike="noStrike">
                <a:solidFill>
                  <a:srgbClr val="000033"/>
                </a:solidFill>
                <a:latin typeface="Arial"/>
              </a:rPr>
              <a: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Una </a:t>
            </a:r>
            <a:r>
              <a:rPr b="1" lang="es-ES_tradnl" sz="1300" spc="-1" strike="noStrike">
                <a:solidFill>
                  <a:srgbClr val="000033"/>
                </a:solidFill>
                <a:latin typeface="Arial"/>
              </a:rPr>
              <a:t>fobia</a:t>
            </a:r>
            <a:r>
              <a:rPr b="0" lang="es-ES_tradnl" sz="1300" spc="-1" strike="noStrike">
                <a:solidFill>
                  <a:srgbClr val="000033"/>
                </a:solidFill>
                <a:latin typeface="Arial"/>
              </a:rPr>
              <a:t> es el resultado de un </a:t>
            </a:r>
            <a:r>
              <a:rPr b="1" lang="es-ES_tradnl" sz="1300" spc="-1" strike="noStrike">
                <a:solidFill>
                  <a:srgbClr val="000033"/>
                </a:solidFill>
                <a:latin typeface="Arial"/>
              </a:rPr>
              <a:t>desplazamiento</a:t>
            </a:r>
            <a:r>
              <a:rPr b="0" lang="es-ES_tradnl" sz="1300" spc="-1" strike="noStrike">
                <a:solidFill>
                  <a:srgbClr val="000033"/>
                </a:solidFill>
                <a:latin typeface="Arial"/>
              </a:rPr>
              <a:t> de la angustia interior (tanto más insoportable cuanto que no tiene referencia con nada) sobre un “</a:t>
            </a:r>
            <a:r>
              <a:rPr b="1" lang="es-ES_tradnl" sz="1300" spc="-1" strike="noStrike">
                <a:solidFill>
                  <a:srgbClr val="000033"/>
                </a:solidFill>
                <a:latin typeface="Arial"/>
              </a:rPr>
              <a:t>OBJETO</a:t>
            </a:r>
            <a:r>
              <a:rPr b="0" lang="es-ES_tradnl" sz="1300" spc="-1" strike="noStrike">
                <a:solidFill>
                  <a:srgbClr val="000033"/>
                </a:solidFill>
                <a:latin typeface="Arial"/>
              </a:rPr>
              <a:t>” del mundo exterior (instrumentos cortantes, o ciertos animalitos) o sobre una situación  objetivable (un espacio muy cerrado o muy abierto), que permite calificar y circunscribir la angustia a la situación o de remitir (falsamente) su desencadenamiento  a la aparición del objeto.</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La </a:t>
            </a:r>
            <a:r>
              <a:rPr b="1" lang="es-ES_tradnl" sz="1300" spc="-1" strike="noStrike">
                <a:solidFill>
                  <a:srgbClr val="000033"/>
                </a:solidFill>
                <a:latin typeface="Arial"/>
              </a:rPr>
              <a:t>condensación</a:t>
            </a:r>
            <a:r>
              <a:rPr b="0" lang="es-ES_tradnl" sz="1300" spc="-1" strike="noStrike">
                <a:solidFill>
                  <a:srgbClr val="000033"/>
                </a:solidFill>
                <a:latin typeface="Arial"/>
              </a:rPr>
              <a:t> también debe ser considerada en el caso de ciertos </a:t>
            </a:r>
            <a:r>
              <a:rPr b="1" lang="es-ES_tradnl" sz="1300" spc="-1" strike="noStrike">
                <a:solidFill>
                  <a:srgbClr val="000033"/>
                </a:solidFill>
                <a:latin typeface="Arial"/>
              </a:rPr>
              <a:t>síntomas</a:t>
            </a:r>
            <a:r>
              <a:rPr b="0" lang="es-ES_tradnl" sz="1300" spc="-1" strike="noStrike">
                <a:solidFill>
                  <a:srgbClr val="000033"/>
                </a:solidFill>
                <a:latin typeface="Arial"/>
              </a:rPr>
              <a:t>.. El cuchillo que desencadena un reacción fóbica puede </a:t>
            </a:r>
            <a:r>
              <a:rPr b="1" lang="es-ES_tradnl" sz="1300" spc="-1" strike="noStrike">
                <a:solidFill>
                  <a:srgbClr val="000033"/>
                </a:solidFill>
                <a:latin typeface="Arial"/>
              </a:rPr>
              <a:t>CONDENSAR</a:t>
            </a:r>
            <a:r>
              <a:rPr b="0" lang="es-ES_tradnl" sz="1300" spc="-1" strike="noStrike">
                <a:solidFill>
                  <a:srgbClr val="000033"/>
                </a:solidFill>
                <a:latin typeface="Arial"/>
              </a:rPr>
              <a:t> las significaciones de penetración, de asesinato, de castración. Ciertos órganos del cuerpo pueden condensar varias significaciones (sobre todo la cabeza) Un " golpe al corazón”puede manifestarse por una arritmia cardiaca, lo que ilustra esquemáticamente la intervención combinada de la  </a:t>
            </a:r>
            <a:r>
              <a:rPr b="1" lang="es-ES_tradnl" sz="1300" spc="-1" strike="noStrike">
                <a:solidFill>
                  <a:srgbClr val="000033"/>
                </a:solidFill>
                <a:latin typeface="Arial"/>
              </a:rPr>
              <a:t>condensación</a:t>
            </a:r>
            <a:r>
              <a:rPr b="0" lang="es-ES_tradnl" sz="1300" spc="-1" strike="noStrike">
                <a:solidFill>
                  <a:srgbClr val="000033"/>
                </a:solidFill>
                <a:latin typeface="Arial"/>
              </a:rPr>
              <a:t> y del </a:t>
            </a:r>
            <a:r>
              <a:rPr b="1" lang="es-ES_tradnl" sz="1300" spc="-1" strike="noStrike">
                <a:solidFill>
                  <a:srgbClr val="000033"/>
                </a:solidFill>
                <a:latin typeface="Arial"/>
              </a:rPr>
              <a:t>desplazamiento</a:t>
            </a:r>
            <a:r>
              <a:rPr b="0" lang="es-ES_tradnl" sz="1300" spc="-1" strike="noStrike">
                <a:solidFill>
                  <a:srgbClr val="000033"/>
                </a:solidFill>
                <a:latin typeface="Arial"/>
              </a:rPr>
              <a:t> en la </a:t>
            </a:r>
            <a:r>
              <a:rPr b="1" lang="es-ES_tradnl" sz="1300" spc="-1" strike="noStrike">
                <a:solidFill>
                  <a:srgbClr val="000033"/>
                </a:solidFill>
                <a:latin typeface="Arial"/>
              </a:rPr>
              <a:t>manifestación</a:t>
            </a:r>
            <a:r>
              <a:rPr b="0" lang="es-ES_tradnl" sz="1300" spc="-1" strike="noStrike">
                <a:solidFill>
                  <a:srgbClr val="000033"/>
                </a:solidFill>
                <a:latin typeface="Arial"/>
              </a:rPr>
              <a:t> del </a:t>
            </a:r>
            <a:r>
              <a:rPr b="1" lang="es-ES_tradnl" sz="1300" spc="-1" strike="noStrike">
                <a:solidFill>
                  <a:srgbClr val="000033"/>
                </a:solidFill>
                <a:latin typeface="Arial"/>
              </a:rPr>
              <a:t>síntoma</a:t>
            </a:r>
            <a:r>
              <a:rPr b="0" lang="es-ES_tradnl" sz="1300" spc="-1" strike="noStrike">
                <a:solidFill>
                  <a:srgbClr val="000033"/>
                </a:solidFill>
                <a:latin typeface="Arial"/>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91" name=""/>
          <p:cNvSpPr/>
          <p:nvPr/>
        </p:nvSpPr>
        <p:spPr>
          <a:xfrm>
            <a:off x="8001000" y="609480"/>
            <a:ext cx="762120" cy="762120"/>
          </a:xfrm>
          <a:custGeom>
            <a:avLst/>
            <a:gdLst>
              <a:gd name="textAreaLeft" fmla="*/ 101880 w 762120"/>
              <a:gd name="textAreaRight" fmla="*/ 660240 w 76212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457200" y="2743200"/>
            <a:ext cx="8305920" cy="1143000"/>
          </a:xfrm>
          <a:prstGeom prst="rect">
            <a:avLst/>
          </a:prstGeom>
          <a:solidFill>
            <a:srgbClr val="fbdf53">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7200" y="4419720"/>
            <a:ext cx="8305920" cy="1218960"/>
          </a:xfrm>
          <a:prstGeom prst="rect">
            <a:avLst/>
          </a:prstGeom>
          <a:solidFill>
            <a:srgbClr val="cc3300">
              <a:alpha val="2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4962600" cy="6858000"/>
          </a:xfrm>
          <a:prstGeom prst="rect">
            <a:avLst/>
          </a:prstGeom>
          <a:ln w="0">
            <a:noFill/>
          </a:ln>
        </p:spPr>
      </p:pic>
      <p:sp>
        <p:nvSpPr>
          <p:cNvPr id="95" name=""/>
          <p:cNvSpPr/>
          <p:nvPr/>
        </p:nvSpPr>
        <p:spPr>
          <a:xfrm>
            <a:off x="5181480" y="228600"/>
            <a:ext cx="3429000" cy="452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vador Dalí</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trato de Freud, </a:t>
            </a:r>
            <a:r>
              <a:rPr b="0" lang="en-US" sz="1000" spc="-1" strike="noStrike">
                <a:solidFill>
                  <a:srgbClr val="000000"/>
                </a:solidFill>
                <a:latin typeface="Arial"/>
              </a:rPr>
              <a:t>193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nta china y gouache s/ pap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 x 25 c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vador D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trato de Freud, </a:t>
            </a:r>
            <a:r>
              <a:rPr b="0" lang="en-US" sz="1000" spc="-1" strike="noStrike">
                <a:solidFill>
                  <a:srgbClr val="000000"/>
                </a:solidFill>
                <a:latin typeface="Arial"/>
              </a:rPr>
              <a:t>193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nta china y gouache s/ pap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 x 25 c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666666"/>
                </a:solidFill>
                <a:latin typeface="Verdana"/>
              </a:rPr>
              <a:t>Dije ya, al narrar mi encuentro con él, que el cráneo de Freud parecía un Caracol de Borgoña. La consecuencia es obvia: si se quiere digerir su pensamiento hay que extraerlo con un palillo. De lo contrario se rompe y no hay nada que hacer; jamás llegarás a desentrañarlo.</a:t>
            </a:r>
            <a:r>
              <a:rPr b="0" lang="en-US" sz="1100" spc="-1" strike="noStrike">
                <a:solidFill>
                  <a:srgbClr val="666666"/>
                </a:solidFill>
                <a:latin typeface="Verdana"/>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666666"/>
                </a:solidFill>
                <a:latin typeface="Verdana"/>
              </a:rPr>
              <a:t>Al parecer, sin darme cuenta, dibuje la muerte terrestre de Freud en el retrato al carbón que hice de él un año antes de su muerte. Mi intención especial había sido realizar un dibujo puramente morfológico del genio del psicoanálisis.</a:t>
            </a:r>
            <a:r>
              <a:rPr b="0" lang="en-US" sz="1100" spc="-1" strike="noStrike">
                <a:solidFill>
                  <a:srgbClr val="666666"/>
                </a:solidFill>
                <a:latin typeface="Verdana"/>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2:58:09Z</dcterms:created>
  <dc:creator>Unidad Multimedia</dc:creator>
  <dc:description/>
  <dc:language>en-US</dc:language>
  <cp:lastModifiedBy>Unidad Multimedia</cp:lastModifiedBy>
  <dcterms:modified xsi:type="dcterms:W3CDTF">1970-06-27T05:50:54Z</dcterms:modified>
  <cp:revision>17</cp:revision>
  <dc:subject/>
  <dc:title>PowerPoint Presentation</dc:title>
</cp:coreProperties>
</file>